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3960"/>
            <a:ext cx="81532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5360" y="369396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4080" y="149832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70600" y="149832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396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4080" y="369396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70600" y="3693960"/>
            <a:ext cx="26251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5360" y="369396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5360" y="1498320"/>
            <a:ext cx="39787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3960"/>
            <a:ext cx="81532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116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784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784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784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934320" y="4114800"/>
            <a:ext cx="167616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57200" y="41148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Processing Un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95480" y="3886200"/>
            <a:ext cx="3048120" cy="12193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905120"/>
            <a:ext cx="1524240" cy="19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1905120"/>
            <a:ext cx="1523880" cy="19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86960" y="429264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4840" y="266688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Control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36560" y="2590920"/>
            <a:ext cx="151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Arithmetic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Logic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9840" y="419112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In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00400" y="419112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2096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4914720" y="36954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351400">
            <a:off x="5295240" y="37717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63600">
            <a:off x="4114440" y="342864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42670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2670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009960" y="36190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351400">
            <a:off x="3466440" y="36954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Categories of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Only Memory - 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volatile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‘burned’ into chips circui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 part of BIOS and commonly used 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re application routines on dedicated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able Read Only Memory – P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programmed once and then like 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asable PROM – EP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nts can be erased through a ‘window’ and reprogr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Categories of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Erasable PROM – EEP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nt can be erased and reprogrammed electrically through using a special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cost and size of EP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pdated in place by th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d to upgrade BIOS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advantage to be taken of new technology develop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ation of Main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organised in words of fixed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divided into 2n bytes, each with an assigned address or memory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or 32 bit ope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from memory location 0 to location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ction between memory address and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geon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ROM are directly addres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issue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of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ed Program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may be stored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ffect the overall performance of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may be changed by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 instructions (paramet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change programs facilitates flexibility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ual Compu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40006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instructions in language capable of being understood by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, COBOL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understood by the computer, source code must be translated to binar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converted to object code and permanently stored as compiled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10160" y="1498320"/>
            <a:ext cx="4000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er reads source code, translating each instruction into object or executable code but not creating a permanent objec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s source code to intermediate code which is in turn interpr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ual Compu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er is the conceptual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conceptual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input device (key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output device (V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processor (execute instructions, part of interpr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processor (execute commands, part of interpr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s the overall operation of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s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and controls the computers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communications between computer and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ffic reg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 fontScale="93000"/>
          </a:bodyPr>
          <a:p>
            <a:pPr marL="353880" indent="-353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n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l alloy or still plastic pl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ated with metal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/polarity of magne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manent pits burned with la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storag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ower than magnetic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neto-op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er light used to create spots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netic heads alter polai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5320">
              <a:lnSpc>
                <a:spcPct val="9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e capacity of optical with speed of magn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40006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T Record, FAT, Roo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 creates index of addresses of data in mass storage so that it can be retr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0160" y="1498320"/>
            <a:ext cx="4000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cal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VD-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-O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pt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rt C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tic S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chip with electronic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xchang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secur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6880" y="1523880"/>
            <a:ext cx="3505320" cy="3886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hine Cy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3962520"/>
            <a:ext cx="3200400" cy="1218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89120" y="472428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1752480"/>
            <a:ext cx="152388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38880" y="18288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Control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752480"/>
            <a:ext cx="1524240" cy="1981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88840" y="1828800"/>
            <a:ext cx="151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Arithmetic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65 Bold"/>
              </a:rPr>
              <a:t>Logic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36232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99600">
            <a:off x="3200400" y="358056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0914000">
            <a:off x="4419360" y="373356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571640" y="251460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09360" y="25146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nivers 65 Bold"/>
              </a:rPr>
              <a:t>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9880" y="25146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nivers 65 Bold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13040" y="434340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nivers 65 Bold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28080" y="43434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nivers 65 Bold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79480" y="335268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Univers 65 Bold"/>
              </a:rPr>
              <a:t>Instr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Univers 65 Bold"/>
              </a:rPr>
              <a:t>cy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92160" y="33415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9840" y="3341520"/>
            <a:ext cx="14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Univers 65 Bold"/>
              </a:rPr>
              <a:t>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Univers 65 Bold"/>
              </a:rPr>
              <a:t>cy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  S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ertoire of commands available as the language of a particular computer or programming system.  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ruction code, machine code, order cod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nguin Dictionary of Compu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machine instructions that a processor recognises and can execute.  Today, two instruction set strategies, CISC and RISC, dominate the processor instruction sets of computer architectur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chnology Guide p. 7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05520" y="3809880"/>
            <a:ext cx="2819160" cy="1067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3048120"/>
            <a:ext cx="29718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ual Structure of a Compu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31760" y="1828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65 Bold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13880" y="25146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65 Bold"/>
              </a:rPr>
              <a:t>F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57000" y="31240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65 Bold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90200" y="38098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 65 Bold"/>
              </a:rPr>
              <a:t>Micropros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00880" y="4419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65 Bold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1760" y="50292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65 Bold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01280" y="41911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65 Bold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008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 65 Bold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580480" y="1981080"/>
            <a:ext cx="1514160" cy="609480"/>
            <a:chOff x="2580480" y="1981080"/>
            <a:chExt cx="1514160" cy="609480"/>
          </a:xfrm>
        </p:grpSpPr>
        <p:sp>
          <p:nvSpPr>
            <p:cNvPr id="90" name=""/>
            <p:cNvSpPr/>
            <p:nvPr/>
          </p:nvSpPr>
          <p:spPr>
            <a:xfrm>
              <a:off x="2580480" y="2057040"/>
              <a:ext cx="1514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Univers 65 Bold"/>
                </a:rPr>
                <a:t>Input Uni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0920" y="1981080"/>
              <a:ext cx="144756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90920" y="3276720"/>
            <a:ext cx="16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4520" y="3352680"/>
            <a:ext cx="177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Univers 65 Bold"/>
              </a:rPr>
              <a:t>Control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85440" y="4495680"/>
            <a:ext cx="1738080" cy="609480"/>
            <a:chOff x="2485440" y="4495680"/>
            <a:chExt cx="1738080" cy="609480"/>
          </a:xfrm>
        </p:grpSpPr>
        <p:sp>
          <p:nvSpPr>
            <p:cNvPr id="95" name=""/>
            <p:cNvSpPr/>
            <p:nvPr/>
          </p:nvSpPr>
          <p:spPr>
            <a:xfrm>
              <a:off x="2485440" y="4572000"/>
              <a:ext cx="1738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Univers 65 Bold"/>
                </a:rPr>
                <a:t>Output Uni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90920" y="4495680"/>
              <a:ext cx="16002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02640" y="2438280"/>
            <a:ext cx="1899720" cy="609480"/>
            <a:chOff x="6002640" y="2438280"/>
            <a:chExt cx="1899720" cy="609480"/>
          </a:xfrm>
        </p:grpSpPr>
        <p:sp>
          <p:nvSpPr>
            <p:cNvPr id="98" name=""/>
            <p:cNvSpPr/>
            <p:nvPr/>
          </p:nvSpPr>
          <p:spPr>
            <a:xfrm>
              <a:off x="6002640" y="2514240"/>
              <a:ext cx="189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Univers 65 Bold"/>
                </a:rPr>
                <a:t>Memory Uni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5880" y="2438280"/>
              <a:ext cx="1752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095880" y="41148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01600" y="4191120"/>
            <a:ext cx="70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Univers 65 Bold"/>
              </a:rPr>
              <a:t>A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09480" y="3276720"/>
            <a:ext cx="1447920" cy="609480"/>
            <a:chOff x="609480" y="3276720"/>
            <a:chExt cx="1447920" cy="609480"/>
          </a:xfrm>
        </p:grpSpPr>
        <p:sp>
          <p:nvSpPr>
            <p:cNvPr id="103" name=""/>
            <p:cNvSpPr/>
            <p:nvPr/>
          </p:nvSpPr>
          <p:spPr>
            <a:xfrm>
              <a:off x="822960" y="3353040"/>
              <a:ext cx="88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Univers 65 Bold"/>
                </a:rPr>
                <a:t>Cloc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80" y="3276720"/>
              <a:ext cx="14479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743200" y="2590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13716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9000" y="1371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19520" y="5105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51055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51055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8620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91120" y="3429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30477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42670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21337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543800" y="4343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190760" y="5029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40006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(read only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10160" y="1498320"/>
            <a:ext cx="4000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tore programmes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programmes and data readily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storage medium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(volatile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transfer speed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40006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95000"/>
              </a:lnSpc>
              <a:spcBef>
                <a:spcPts val="675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operation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s programmes and data being used by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s pre-loads programmes and data into main memory to speed u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Random Access Memory (DRAM)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e charge quickly and need to be refre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, 16, 32, 64, 128 mega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10160" y="1498320"/>
            <a:ext cx="4000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95000"/>
              </a:lnSpc>
              <a:spcBef>
                <a:spcPts val="675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memory chips between main memory and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s up transfer between main memory and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anticipates data and programmes required by processor and places them in cache memory for faste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hip’ cache in modern Intel chips make access as fast as the processor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sizes 128 or 256 kilo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40006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can be read but not over-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‘burned’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s more frequently used 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 use is to hold part of BIOS – Basic Input/Output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0160" y="1498320"/>
            <a:ext cx="4000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to handle higher data loads associated with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 a dedicated area of main memory but now on dedicated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Mb to 8Mb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 Stor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storage on main computer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is secure (generall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agnetic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py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-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Categories of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98320"/>
            <a:ext cx="81532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Random Access Memory – D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andom Access Memory –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ain charge longer than DRAM c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er access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r and more expensive than D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in cache memory and V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8:20:29Z</dcterms:created>
  <dc:creator>John Lawlor</dc:creator>
  <dc:description/>
  <dc:language>en-US</dc:language>
  <cp:lastModifiedBy>John Lawlor</cp:lastModifiedBy>
  <dcterms:modified xsi:type="dcterms:W3CDTF">2001-05-26T09:12:57Z</dcterms:modified>
  <cp:revision>23</cp:revision>
  <dc:subject/>
  <dc:title>Central Processing Unit</dc:title>
</cp:coreProperties>
</file>