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515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498320"/>
            <a:ext cx="815328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93960"/>
            <a:ext cx="815328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515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98320"/>
            <a:ext cx="397872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5360" y="1498320"/>
            <a:ext cx="397872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93960"/>
            <a:ext cx="397872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35360" y="3693960"/>
            <a:ext cx="397872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515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98320"/>
            <a:ext cx="262512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14080" y="1498320"/>
            <a:ext cx="262512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70600" y="1498320"/>
            <a:ext cx="262512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93960"/>
            <a:ext cx="262512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14080" y="3693960"/>
            <a:ext cx="262512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70600" y="3693960"/>
            <a:ext cx="262512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515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498320"/>
            <a:ext cx="81532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515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498320"/>
            <a:ext cx="815328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515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98320"/>
            <a:ext cx="397872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35360" y="1498320"/>
            <a:ext cx="397872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515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52560" y="456840"/>
            <a:ext cx="723888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515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98320"/>
            <a:ext cx="397872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5360" y="1498320"/>
            <a:ext cx="397872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93960"/>
            <a:ext cx="397872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515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98320"/>
            <a:ext cx="397872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5360" y="1498320"/>
            <a:ext cx="397872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35360" y="3693960"/>
            <a:ext cx="397872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515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498320"/>
            <a:ext cx="397872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5360" y="1498320"/>
            <a:ext cx="397872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93960"/>
            <a:ext cx="815328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98320"/>
            <a:ext cx="815328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marL="380880" indent="-380880">
              <a:lnSpc>
                <a:spcPct val="105000"/>
              </a:lnSpc>
              <a:spcBef>
                <a:spcPts val="90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85840">
              <a:lnSpc>
                <a:spcPct val="10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281160">
              <a:lnSpc>
                <a:spcPct val="10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47840" indent="-228600">
              <a:lnSpc>
                <a:spcPct val="105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247840" indent="-228600">
              <a:lnSpc>
                <a:spcPct val="105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247840" indent="-228600">
              <a:lnSpc>
                <a:spcPct val="105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228600" y="6019920"/>
            <a:ext cx="1152360" cy="60948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6701400" y="617220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400" spc="-1" strike="noStrike">
                <a:solidFill>
                  <a:srgbClr val="fc0128"/>
                </a:solidFill>
                <a:latin typeface="Arial"/>
              </a:rPr>
              <a:t>Lawlor Consulting Limi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IT Chan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98320"/>
            <a:ext cx="399744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Greater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hanges in work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onsolidation of depar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hanging work r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Reduced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Devolved decision m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Streamlining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Improved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Better customer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New opportuni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13040" y="1498320"/>
            <a:ext cx="399708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Less staff, more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Learning, resisting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Empires, positions threate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Job and comfort threate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More exposure, respons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More accoun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Job done away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Easier performance 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Working ha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New thre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IT Chan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498320"/>
            <a:ext cx="400068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Automating manual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hanges in structure, de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hange in 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hange in attit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ost re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Reduced head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Departmental barriers g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Greater flex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10160" y="1498320"/>
            <a:ext cx="400032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Out of the comfort z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New boss, reports,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Unions, resistance, WIIF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Averse, afraid of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here goes my j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Redunda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Keep out, turf w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More and harder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1:28Z</dcterms:created>
  <dc:creator>jlawlor</dc:creator>
  <dc:description/>
  <dc:language>en-US</dc:language>
  <cp:lastModifiedBy>jlawlor</cp:lastModifiedBy>
  <dcterms:modified xsi:type="dcterms:W3CDTF">2001-09-06T15:20:51Z</dcterms:modified>
  <cp:revision>2</cp:revision>
  <dc:subject/>
  <dc:title>IT Change</dc:title>
</cp:coreProperties>
</file>