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549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954960"/>
            <a:ext cx="267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39549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54960"/>
            <a:ext cx="8305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58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Patrice Faye -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webpresence_logo" descr=""/>
          <p:cNvPicPr/>
          <p:nvPr/>
        </p:nvPicPr>
        <p:blipFill>
          <a:blip r:embed="rId2"/>
          <a:stretch/>
        </p:blipFill>
        <p:spPr>
          <a:xfrm>
            <a:off x="46080" y="6475320"/>
            <a:ext cx="1630440" cy="382680"/>
          </a:xfrm>
          <a:prstGeom prst="rect">
            <a:avLst/>
          </a:prstGeom>
          <a:ln w="0">
            <a:noFill/>
          </a:ln>
        </p:spPr>
      </p:pic>
      <p:pic>
        <p:nvPicPr>
          <p:cNvPr id="3" name="bs00580_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0666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enginewatch.com/webmasters/meta.html" TargetMode="External"/><Relationship Id="rId2" Type="http://schemas.openxmlformats.org/officeDocument/2006/relationships/hyperlink" Target="http://webdeveloper.com/html/html_metatag_res.html" TargetMode="External"/><Relationship Id="rId3" Type="http://schemas.openxmlformats.org/officeDocument/2006/relationships/hyperlink" Target="http://www.pageresource.com/html/metref.htm" TargetMode="External"/><Relationship Id="rId4" Type="http://schemas.openxmlformats.org/officeDocument/2006/relationships/hyperlink" Target="http://www.scrubtheweb.com/abs/meta-check.html" TargetMode="External"/><Relationship Id="rId5" Type="http://schemas.openxmlformats.org/officeDocument/2006/relationships/hyperlink" Target="http://www.stars.com/Location/Meta/Tag.html" TargetMode="External"/><Relationship Id="rId6" Type="http://schemas.openxmlformats.org/officeDocument/2006/relationships/hyperlink" Target="http://www.pegasoweb.com/meta_tags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cee.com/eureka/eureka_i.htm" TargetMode="External"/><Relationship Id="rId2" Type="http://schemas.openxmlformats.org/officeDocument/2006/relationships/hyperlink" Target="http://deadlock.com/promote/" TargetMode="External"/><Relationship Id="rId3" Type="http://schemas.openxmlformats.org/officeDocument/2006/relationships/hyperlink" Target="http://www.cyberscans.com/submit.htm" TargetMode="External"/><Relationship Id="rId4" Type="http://schemas.openxmlformats.org/officeDocument/2006/relationships/hyperlink" Target="http://www.webmastergate.com/web_promote.html" TargetMode="External"/><Relationship Id="rId5" Type="http://schemas.openxmlformats.org/officeDocument/2006/relationships/hyperlink" Target="http://www.123promote.com/" TargetMode="External"/><Relationship Id="rId6" Type="http://schemas.openxmlformats.org/officeDocument/2006/relationships/hyperlink" Target="http://www.kwik-link.com/c/promote.htm" TargetMode="External"/><Relationship Id="rId7" Type="http://schemas.openxmlformats.org/officeDocument/2006/relationships/hyperlink" Target="http://selfpromotion.com/" TargetMode="External"/><Relationship Id="rId8" Type="http://schemas.openxmlformats.org/officeDocument/2006/relationships/hyperlink" Target="http://builder.cnet.com/Servers/Publish/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w.nih.gov/Security/security-www.html" TargetMode="External"/><Relationship Id="rId2" Type="http://schemas.openxmlformats.org/officeDocument/2006/relationships/hyperlink" Target="http://www.w3.org/Security/Faq/" TargetMode="External"/><Relationship Id="rId3" Type="http://schemas.openxmlformats.org/officeDocument/2006/relationships/hyperlink" Target="http://www.microsoft.com/security/" TargetMode="External"/><Relationship Id="rId4" Type="http://schemas.openxmlformats.org/officeDocument/2006/relationships/hyperlink" Target="http://www.microsoft.com/technet/security/" TargetMode="External"/><Relationship Id="rId5" Type="http://schemas.openxmlformats.org/officeDocument/2006/relationships/hyperlink" Target="http://www.linuxsecurity.com/" TargetMode="External"/><Relationship Id="rId6" Type="http://schemas.openxmlformats.org/officeDocument/2006/relationships/hyperlink" Target="http://www.securitywebsites.com/" TargetMode="External"/><Relationship Id="rId7" Type="http://schemas.openxmlformats.org/officeDocument/2006/relationships/hyperlink" Target="http://www.securitysearch.net/" TargetMode="Externa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Searching and being found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6324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Optimisation of search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Meta Tags Link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utorial on how to use Meta tags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searchenginewatch.com/webmasters/meta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ta tags resources for developpers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ebdeveloper.com/html/html_metatag_res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out the meta refresh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pageresource.com/html/metref.htm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heck on meta tags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scrubtheweb.com/abs/meta-check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tatagging for search engines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stars.com/Location/Meta/Tag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tatags recommendations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pegasoweb.com/meta_tags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eb site promot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Tell other that you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Keep in mind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Your web site should be working fine in different brows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ternet Explorer, Netscape, Opera, etc…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ttp://www.download.com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nd search for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You should also be satisfied and having been testing the site before being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Validation link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alidation of the content of a web site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validator.w3.org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ML free validation services from Melbourne university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www.unimelb.edu.au/html-check/validation-form.html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elp from Doctor HTML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www2.imagiware.com/RxHTM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list of validation tools from Webreference.com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www.webreference.com/authoring/languages/html/validation.html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Be active!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Go to the main actors like major search engine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dd your URL within their “Add URL Form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alk about your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Link other sites to yours and vice-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tc… check the 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eb site promotion link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rets of Searching the Web &amp; Promoting Your Website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gocee.com/eureka/eureka_i.ht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rt of business web site promotion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deadlock.com/promote/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e web site promotion and other resourc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yberscans.com/submit.ht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 site promotion resources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webmastergate.com/web_promot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ool box from webpromote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123promote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101 promotion services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kwik-link.com/c/promote.ht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reate search-engine-friendly Webpages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selfpromotion.co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ublishing a web site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builder.cnet.com/Servers/Publish/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Some links for you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Links for security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World Wide Web Sites </a:t>
            </a:r>
            <a:br>
              <a:rPr sz="2000"/>
            </a:b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alw.nih.gov/Security/security-www.html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World Wide Web Security FAQ</a:t>
            </a:r>
            <a:br>
              <a:rPr sz="2000"/>
            </a:b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3.org/Security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icrosoft security information pages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icrosoft.com/security/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icrosoft.com/technet/security/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Linux security pages</a:t>
            </a:r>
            <a:br>
              <a:rPr sz="2000"/>
            </a:b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http://www.linuxsecurity.com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Great Linux-vs-NT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bate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jimmo.com/Linux-NT_Debate/_Security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Web Sites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http://www.securitywebsites.com/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search</a:t>
            </a: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http://www.securitysearch.net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webpresence_logo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31244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bs00580_" descr=""/>
          <p:cNvPicPr/>
          <p:nvPr/>
        </p:nvPicPr>
        <p:blipFill>
          <a:blip r:embed="rId2"/>
          <a:stretch/>
        </p:blipFill>
        <p:spPr>
          <a:xfrm>
            <a:off x="3657600" y="1812960"/>
            <a:ext cx="1828800" cy="153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57600" y="38098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atrice Faye -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ecause most of the time web sites are found by search engine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88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Yahoo, Altavista, Goog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88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r by meta search engines like Copernic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 (http://www.copernic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Meta tag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Times New Roman"/>
              </a:rPr>
              <a:t>Provid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Meta tag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ach document can provide information about its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more accurate the information, the more likelly the page could be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information is provided by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META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Where to place the tag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n the HEAD section of the p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Times New Roman"/>
              </a:rPr>
              <a:t>&lt;meta name=“</a:t>
            </a: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r>
              <a:rPr b="0" lang="en-IE" sz="2800" spc="-1" strike="noStrike">
                <a:solidFill>
                  <a:srgbClr val="000099"/>
                </a:solidFill>
                <a:latin typeface="Times New Roman"/>
              </a:rPr>
              <a:t>” content=“</a:t>
            </a:r>
            <a:r>
              <a:rPr b="0" i="1" lang="en-IE" sz="2800" spc="-1" strike="noStrike">
                <a:solidFill>
                  <a:srgbClr val="ff0000"/>
                </a:solidFill>
                <a:latin typeface="Times New Roman"/>
              </a:rPr>
              <a:t>whatever</a:t>
            </a:r>
            <a:r>
              <a:rPr b="0" lang="en-IE" sz="2800" spc="-1" strike="noStrike">
                <a:solidFill>
                  <a:srgbClr val="000099"/>
                </a:solidFill>
                <a:latin typeface="Times New Roman"/>
              </a:rPr>
              <a:t>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7619760" cy="31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How to use Meta tag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or example if your site is about Skyd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727360"/>
            <a:ext cx="83055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Being indexed or not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f you don’t want to be registered with search engines, you can try to use the special attributes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NOFOLLOW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NOINDEX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l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You could choose to accept the robots to index your pages and therefore replace the CONTENT by “A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0240" y="2770200"/>
            <a:ext cx="5264280" cy="21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Special feature of META TAG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You can refresh pages or automatically redirect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You have to u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ttp-equiv=“refres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tent=“xxx  (number of seconds befor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;url=xxx”  (semi colon and URL followed by the proper 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6175440" cy="21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626160" y="4251240"/>
            <a:ext cx="238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1" i="1" lang="en-I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i="1" lang="en-IE" sz="2000" spc="-1" strike="noStrike">
                <a:solidFill>
                  <a:srgbClr val="000000"/>
                </a:solidFill>
                <a:latin typeface="Times New Roman"/>
              </a:rPr>
              <a:t>You could</a:t>
            </a:r>
            <a:br>
              <a:rPr sz="2000"/>
            </a:br>
            <a:r>
              <a:rPr b="1" i="1" lang="en-IE" sz="2000" spc="-1" strike="noStrike">
                <a:solidFill>
                  <a:srgbClr val="000000"/>
                </a:solidFill>
                <a:latin typeface="Times New Roman"/>
              </a:rPr>
              <a:t>create a slide show</a:t>
            </a:r>
            <a:br>
              <a:rPr sz="2000"/>
            </a:br>
            <a:r>
              <a:rPr b="1" i="1" lang="en-IE" sz="2000" spc="-1" strike="noStrike">
                <a:solidFill>
                  <a:srgbClr val="000000"/>
                </a:solidFill>
                <a:latin typeface="Times New Roman"/>
              </a:rPr>
              <a:t>by chaining pages</a:t>
            </a:r>
            <a:br>
              <a:rPr sz="2000"/>
            </a:br>
            <a:r>
              <a:rPr b="1" i="1" lang="en-IE" sz="2000" spc="-1" strike="noStrike">
                <a:solidFill>
                  <a:srgbClr val="000000"/>
                </a:solidFill>
                <a:latin typeface="Times New Roman"/>
              </a:rPr>
              <a:t>one after the oth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99"/>
                </a:solidFill>
                <a:latin typeface="Arial"/>
              </a:rPr>
              <a:t>Caution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use of keywords has been done so badly by certain users that the current search engines robots are very car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or example, if you use the same keyword a hundred times in the same page (people did worse…) this will be considered as a “Spaming metho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ost of the public ISPs (Internet Service Provider) will stop your web site from publication if you use spaming tech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7:06:39Z</dcterms:created>
  <dc:creator>pfaye</dc:creator>
  <dc:description/>
  <dc:language>en-US</dc:language>
  <cp:lastModifiedBy>patrice</cp:lastModifiedBy>
  <dcterms:modified xsi:type="dcterms:W3CDTF">2001-02-05T19:38:32Z</dcterms:modified>
  <cp:revision>43</cp:revision>
  <dc:subject/>
  <dc:title>PowerPoint Presentation</dc:title>
</cp:coreProperties>
</file>