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2481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99"/>
                </a:solidFill>
                <a:latin typeface="Arial"/>
              </a:rPr>
              <a:t>Patrice Faye -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webpresence_logo" descr=""/>
          <p:cNvPicPr/>
          <p:nvPr/>
        </p:nvPicPr>
        <p:blipFill>
          <a:blip r:embed="rId2"/>
          <a:stretch/>
        </p:blipFill>
        <p:spPr>
          <a:xfrm>
            <a:off x="46080" y="6492960"/>
            <a:ext cx="15541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bs00580_" descr=""/>
          <p:cNvPicPr/>
          <p:nvPr/>
        </p:nvPicPr>
        <p:blipFill>
          <a:blip r:embed="rId3"/>
          <a:stretch/>
        </p:blipFill>
        <p:spPr>
          <a:xfrm>
            <a:off x="76320" y="76320"/>
            <a:ext cx="990360" cy="83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3.org/TR/WD-layout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Layout with </a:t>
            </a:r>
            <a:br>
              <a:rPr sz="4400"/>
            </a:b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Cascading Style She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Enhancement of the basic HTML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Creating an Internal Style She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style sheets are ideal for individual pages with lots of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tyles that should be used throughout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HTML document is to be placed at the top of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nning to apply the style sheet to more than one page? You're better off using external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Example of Internal C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752120"/>
            <a:ext cx="4114800" cy="441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STY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1 {text-align:cent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tterspacing:.5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ckground:gre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nt:normal 20pt “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Aria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”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 {text align:justif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ext-indent:8p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nt: 10pt, “Courier New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sert 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the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TML code here!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752480"/>
            <a:ext cx="4419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 the top of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TML document, between the &lt;HEAD&gt; and &lt;/HEAD&gt; tags, typ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STY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 the name of the tag whose properties to define (H1, P, or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nyth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mark the beginning of this tag's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e as many properties as desired for this tag.  Separate each property with a semi-co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mark the end of this tag's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eat this for each tag for which to defin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/STYLE&gt;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complete the style sh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eparating style from cont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S is designed to work with collections of documents as well as individual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allows  us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apply styles to all pages in one site or all pages within a particular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External Style Shee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asiest way to separate style from content is to use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we save the style information in a separate fil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ile simply contains a set of rules (the same things which would appear inside the style tag)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we save this a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Courier New"/>
              </a:rPr>
              <a:t>mycss.c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, inside the header of the HTML document, we include the following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LINK REL=STYLESHEET HREF=“my</a:t>
            </a:r>
            <a:r>
              <a:rPr b="1" lang="en-IE" sz="2000" spc="-1" strike="noStrike">
                <a:solidFill>
                  <a:srgbClr val="000000"/>
                </a:solidFill>
                <a:latin typeface="Courier New"/>
              </a:rPr>
              <a:t>cs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css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99"/>
                </a:solidFill>
                <a:latin typeface="Times New Roman"/>
              </a:rPr>
              <a:t>Examples of an External Style Shee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ave a text file with an extension .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n type the content like: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H3 { font-family: Arial; font-style: italic; color: green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cc3300"/>
                </a:solidFill>
                <a:latin typeface="Arial"/>
              </a:rPr>
              <a:t>a{text-decoration:non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cc3300"/>
                </a:solidFill>
                <a:latin typeface="Arial"/>
              </a:rPr>
              <a:t>a:hover{text-decoration: underline + overline; color:red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fer to these style sheets in the ht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roduction to Style Sheets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ttp://www.htmlhelp.com/reference/css/quick-tutorial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ascading Style Sheet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3.org/Style/CSS/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S Frequently Asked Question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hwg.org/resources/faqs/cssFAQ.html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 Bad styles collection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arth.com/bad-style/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HTML Hell page (an opinion about what not to do)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tuxedo.org/~esr/html-hell.html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me-based layout via Style Sheets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TR/WD-layout.html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adability of document at NASA: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ttp://heasarc.gsfc.nasa.gov/docs/heasarc/Style_Guide/readability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cheap CSS tricks 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ttp://wsabstract.com/howto/css.s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172200"/>
            <a:ext cx="350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webpresence_logo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32763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What about Layout Styles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he idea of a Layout Styles is to provide a common look like on all the pages of a web site</a:t>
            </a: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he more different styles on one web site (or on one single page…), the less consistency and usualy the worse the resul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What is a Style in HTML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TML Hea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ding One &lt;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ing Two &lt;H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ading Three &lt;H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ading Four &lt;H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eading Five &lt;H5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ading Six &lt;H6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38120" y="2286000"/>
            <a:ext cx="4876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t is a set 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ules, specifying the display attributes of particular HTML elements or group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 is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ical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emplate that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 a starting point, to help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ebmasters 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eep some conformity of both internal (HTML) and external (screen appearance)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Key featur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viding an identifiable location where styles can be created and changed (font size and colour, etc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elping readability of a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vid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ecise control over the positioning of text, images, and other HTML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Why Cascading Style Sheets (CSS)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ving time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ou do it once and you reuse it as much as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hanges are made eas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f you don’t like colours or fonts or backgrounds, you only have one place to look. One change on a Cascading Style Sheet can change a whole website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use of style doesn’t rely only on human check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The tag &lt;Style&gt; for C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496040" cy="3047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&lt;link rel="stylesheet" </a:t>
            </a:r>
            <a:r>
              <a:rPr b="0" lang="en-IE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type="text/css" </a:t>
            </a:r>
            <a:r>
              <a:rPr b="0" lang="en-IE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href=“</a:t>
            </a:r>
            <a:r>
              <a:rPr b="0" lang="en-IE" sz="2000" spc="-1" strike="noStrike">
                <a:solidFill>
                  <a:srgbClr val="cc3300"/>
                </a:solidFill>
                <a:latin typeface="Times New Roman"/>
              </a:rPr>
              <a:t>mycss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.css"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body&gt;...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0600" y="2590920"/>
            <a:ext cx="4191120" cy="3047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ml&gt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&lt;style type="text/css"&gt;</a:t>
            </a:r>
            <a:br>
              <a:rPr sz="1800"/>
            </a:br>
            <a:r>
              <a:rPr b="1" lang="en-IE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&lt;!--</a:t>
            </a:r>
            <a:br>
              <a:rPr sz="1800"/>
            </a:br>
            <a:r>
              <a:rPr b="0" lang="en-IE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...definition goes here</a:t>
            </a:r>
            <a:br>
              <a:rPr sz="1800"/>
            </a:br>
            <a:r>
              <a:rPr b="0" lang="en-IE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&lt;/style&gt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body&gt;...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" y="179712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99"/>
                </a:solidFill>
                <a:latin typeface="Arial"/>
              </a:rPr>
              <a:t>Extrenal reference to a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separate file containing CS</a:t>
            </a:r>
            <a:r>
              <a:rPr b="1" lang="en-I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9191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nternal reference to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5683320"/>
            <a:ext cx="67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99"/>
                </a:solidFill>
                <a:latin typeface="Arial"/>
              </a:rPr>
              <a:t>Note: A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separate file containing CS</a:t>
            </a:r>
            <a:r>
              <a:rPr b="0" i="1" lang="en-IE" sz="1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IE" sz="1600" spc="-1" strike="noStrike">
                <a:solidFill>
                  <a:srgbClr val="000099"/>
                </a:solidFill>
                <a:latin typeface="Arial"/>
              </a:rPr>
              <a:t>is a text fil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Rules and Style Shee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S is based on rules and style shee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statement about one stylistic aspect of one or mor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yle she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or more rules that apply to an HTM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xample lets look at a style sheet that consists of one rule. In the following example we adda  color to all first-level headings (H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{ color: 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ndicates that HTML H1 headings should be displayed in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Anatomy of a Rule</a:t>
            </a: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 - 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ule is made up of a tag name (known as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lect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H1, P etc.) and one or m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laratio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hich are placed within curly brackets). These determine how the elements marked with that tag should he displayed-perhaps in red, at 12 points with Arial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declaration contains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one or m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to change the colour of text, you us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l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with a value of sa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efinition would re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or: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definitions must he separated by semi-co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1 {font-size:12 pt; color: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Anatomy of a Rule</a:t>
            </a: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 - I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roperties can be grouped together with a special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perty like font, background and border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ong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nt: bold 12pt Ari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the same as wr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nt-size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pt; font-weight: bold; font-family: 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, how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pply these to HTML page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ee cho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y styles locally to individu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the STYLE element to create internal styl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e an external style sheet and link it to your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21:02:29Z</dcterms:created>
  <dc:creator>patrice</dc:creator>
  <dc:description/>
  <dc:language>en-US</dc:language>
  <cp:lastModifiedBy>pfaye</cp:lastModifiedBy>
  <dcterms:modified xsi:type="dcterms:W3CDTF">2001-01-09T09:24:22Z</dcterms:modified>
  <cp:revision>155</cp:revision>
  <dc:subject/>
  <dc:title>PowerPoint Presentation</dc:title>
</cp:coreProperties>
</file>