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2EE4-ABA4-4C1D-9A64-4051EFD9B0B2}" type="slidenum"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00840" y="0"/>
            <a:ext cx="85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99160" y="8871120"/>
            <a:ext cx="25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8869320"/>
            <a:ext cx="65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69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5480" y="4344840"/>
            <a:ext cx="1197000" cy="4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000840" y="0"/>
            <a:ext cx="85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99160" y="8871120"/>
            <a:ext cx="25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8869320"/>
            <a:ext cx="65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69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5480" y="4344840"/>
            <a:ext cx="1197000" cy="4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000840" y="0"/>
            <a:ext cx="85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99160" y="8871120"/>
            <a:ext cx="25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8869320"/>
            <a:ext cx="65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69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5480" y="4344840"/>
            <a:ext cx="1197000" cy="4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00840" y="0"/>
            <a:ext cx="85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99160" y="8871120"/>
            <a:ext cx="25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8869320"/>
            <a:ext cx="65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69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5480" y="4344840"/>
            <a:ext cx="1197000" cy="4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954960"/>
            <a:ext cx="8305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954960"/>
            <a:ext cx="4052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9080" y="3954960"/>
            <a:ext cx="4052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67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1160" y="1447560"/>
            <a:ext cx="267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9520" y="1447560"/>
            <a:ext cx="267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954960"/>
            <a:ext cx="267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1160" y="3954960"/>
            <a:ext cx="267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9520" y="3954960"/>
            <a:ext cx="267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2286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954960"/>
            <a:ext cx="4052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9080" y="3954960"/>
            <a:ext cx="4052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954960"/>
            <a:ext cx="8305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4475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0958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E" sz="10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000099"/>
                </a:solidFill>
                <a:latin typeface="Arial"/>
              </a:rPr>
              <a:t>Patrice Faye -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webpresence_logo" descr=""/>
          <p:cNvPicPr/>
          <p:nvPr/>
        </p:nvPicPr>
        <p:blipFill>
          <a:blip r:embed="rId2"/>
          <a:stretch/>
        </p:blipFill>
        <p:spPr>
          <a:xfrm>
            <a:off x="46080" y="6475320"/>
            <a:ext cx="1630440" cy="382680"/>
          </a:xfrm>
          <a:prstGeom prst="rect">
            <a:avLst/>
          </a:prstGeom>
          <a:ln w="0">
            <a:noFill/>
          </a:ln>
        </p:spPr>
      </p:pic>
      <p:pic>
        <p:nvPicPr>
          <p:cNvPr id="3" name="bs00580_" descr=""/>
          <p:cNvPicPr/>
          <p:nvPr/>
        </p:nvPicPr>
        <p:blipFill>
          <a:blip r:embed="rId3"/>
          <a:stretch/>
        </p:blipFill>
        <p:spPr>
          <a:xfrm>
            <a:off x="76320" y="76320"/>
            <a:ext cx="1066680" cy="89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devshed.com/Server_Side/Administration/Database/" TargetMode="External"/><Relationship Id="rId2" Type="http://schemas.openxmlformats.org/officeDocument/2006/relationships/hyperlink" Target="http://www.devshed.com/Server_Side/Administration/Database/" TargetMode="External"/><Relationship Id="rId3" Type="http://schemas.openxmlformats.org/officeDocument/2006/relationships/hyperlink" Target="http://www.devshed.com/Server_Side/Administration/Database/" TargetMode="External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99"/>
                </a:solidFill>
                <a:latin typeface="Arial"/>
              </a:rPr>
              <a:t>Forms and Server Side Processing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000000"/>
                </a:solidFill>
                <a:latin typeface="Times New Roman"/>
              </a:rPr>
              <a:t>User inter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"/>
              </a:rPr>
              <a:t>Two main aspects of using form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ollection of user in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ith HTML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rocess of the in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ually by programs that run on th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3160" y="12189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lt;form&gt;&lt;/form&gt;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gs that are containing the form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xt-input bo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ultiple-choice checkbo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ickable 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adio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ut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ickable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ull-down me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utton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ubmit button </a:t>
            </a: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the browser packages up the data and sends it to the serv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99"/>
                </a:solidFill>
                <a:latin typeface="Arial"/>
              </a:rPr>
              <a:t>Form component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400800" y="1676520"/>
            <a:ext cx="254628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 flipV="1">
            <a:off x="3733920" y="1905120"/>
            <a:ext cx="2666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2362320"/>
            <a:ext cx="266688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2895480"/>
            <a:ext cx="129528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3429000"/>
            <a:ext cx="175248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657600" y="4190760"/>
            <a:ext cx="2743200" cy="75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505320" y="5333760"/>
            <a:ext cx="281916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62320" y="4724280"/>
            <a:ext cx="3886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99"/>
                </a:solidFill>
                <a:latin typeface="Arial"/>
              </a:rPr>
              <a:t>What happen after?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700"/>
              </a:spcBef>
              <a:buClr>
                <a:srgbClr val="000000"/>
              </a:buClr>
              <a:buSzPct val="69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server receives the d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SzPct val="69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sends it to a program for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SzPct val="69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program processes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SzPct val="69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 it sends a response back to th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SzPct val="69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server passes it back to the browser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response may be a HTML page that pops up (like a thank-you message) or it may be the results of some calculations that were carried out on the user data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743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99"/>
                </a:solidFill>
                <a:latin typeface="Arial"/>
              </a:rPr>
              <a:t>Closer look at the form component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"/>
              </a:rPr>
              <a:t>The &lt;form&gt; tag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can be placed anywhere in the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are two attributes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ch mu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e associated with the form ta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ttribute (specifies the URL of the program which will process the form da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ttribute (that dictates the method browser uses to send the data to the serv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imes New Roman"/>
              </a:rPr>
              <a:t>&lt;form method=get</a:t>
            </a:r>
            <a:br>
              <a:rPr sz="2000"/>
            </a:br>
            <a:r>
              <a:rPr b="0" lang="en-GB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Times New Roman"/>
              </a:rPr>
              <a:t>    action=“http://www.website.com/cgi-bin/myprog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imes New Roman"/>
              </a:rPr>
              <a:t>&lt;/form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his is saying that a program called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myprog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which is located in the directory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cgi-bin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of the server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www.website.com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will process the results of the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3657600"/>
            <a:ext cx="864864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99"/>
                </a:solidFill>
                <a:latin typeface="Arial"/>
              </a:rPr>
              <a:t>About the METHOD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METHO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ctates how the Browser will send the data to th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can be either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OST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choice of which one to use is only really relevant to the people who write the programs to process forms and we will mainly use pre-existing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99"/>
                </a:solidFill>
                <a:latin typeface="Arial"/>
              </a:rPr>
              <a:t>A Form Example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219320"/>
            <a:ext cx="5867280" cy="497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IE" sz="1600" spc="-1" strike="noStrike">
                <a:solidFill>
                  <a:srgbClr val="3333cc"/>
                </a:solidFill>
                <a:latin typeface="Arial"/>
              </a:rPr>
              <a:t>body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IE" sz="1600" spc="-1" strike="noStrike">
                <a:solidFill>
                  <a:srgbClr val="3333cc"/>
                </a:solidFill>
                <a:latin typeface="Arial"/>
              </a:rPr>
              <a:t>form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600" spc="-1" strike="noStrike">
                <a:solidFill>
                  <a:srgbClr val="3333cc"/>
                </a:solidFill>
                <a:latin typeface="Arial"/>
              </a:rPr>
              <a:t>method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=post </a:t>
            </a:r>
            <a:br>
              <a:rPr sz="1600"/>
            </a:b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IE" sz="1600" spc="-1" strike="noStrike">
                <a:solidFill>
                  <a:srgbClr val="3333cc"/>
                </a:solidFill>
                <a:latin typeface="Arial"/>
              </a:rPr>
              <a:t>action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=“http:/www.website.com/cgi-bin/myprog”&gt;</a:t>
            </a:r>
            <a:br>
              <a:rPr sz="1600"/>
            </a:b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Name:   &lt;</a:t>
            </a:r>
            <a:r>
              <a:rPr b="0" lang="en-IE" sz="1600" spc="-1" strike="noStrike">
                <a:solidFill>
                  <a:srgbClr val="3333cc"/>
                </a:solidFill>
                <a:latin typeface="Arial"/>
              </a:rPr>
              <a:t>input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600" spc="-1" strike="noStrike">
                <a:solidFill>
                  <a:srgbClr val="3333cc"/>
                </a:solidFill>
                <a:latin typeface="Arial"/>
              </a:rPr>
              <a:t>type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=text </a:t>
            </a:r>
            <a:r>
              <a:rPr b="0" lang="en-IE" sz="1600" spc="-1" strike="noStrike">
                <a:solidFill>
                  <a:srgbClr val="3333cc"/>
                </a:solidFill>
                <a:latin typeface="Arial"/>
              </a:rPr>
              <a:t>name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=name </a:t>
            </a:r>
            <a:r>
              <a:rPr b="0" lang="en-IE" sz="1600" spc="-1" strike="noStrike">
                <a:solidFill>
                  <a:srgbClr val="3333cc"/>
                </a:solidFill>
                <a:latin typeface="Arial"/>
              </a:rPr>
              <a:t>size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=21 </a:t>
            </a:r>
            <a:r>
              <a:rPr b="0" lang="en-IE" sz="1600" spc="-1" strike="noStrike">
                <a:solidFill>
                  <a:srgbClr val="3333cc"/>
                </a:solidFill>
                <a:latin typeface="Arial"/>
              </a:rPr>
              <a:t>maxlength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=80&gt;</a:t>
            </a:r>
            <a:br>
              <a:rPr sz="1600"/>
            </a:b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&lt;p&gt;</a:t>
            </a:r>
            <a:br>
              <a:rPr sz="1600"/>
            </a:b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Gender:</a:t>
            </a:r>
            <a:br>
              <a:rPr sz="1600"/>
            </a:b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    &lt;</a:t>
            </a:r>
            <a:r>
              <a:rPr b="0" lang="en-IE" sz="1600" spc="-1" strike="noStrike">
                <a:solidFill>
                  <a:srgbClr val="3333cc"/>
                </a:solidFill>
                <a:latin typeface="Arial"/>
              </a:rPr>
              <a:t>input type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=radio </a:t>
            </a:r>
            <a:r>
              <a:rPr b="0" lang="en-IE" sz="1600" spc="-1" strike="noStrike">
                <a:solidFill>
                  <a:srgbClr val="3333cc"/>
                </a:solidFill>
                <a:latin typeface="Arial"/>
              </a:rPr>
              <a:t>name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=gender </a:t>
            </a:r>
            <a:r>
              <a:rPr b="0" lang="en-IE" sz="1600" spc="-1" strike="noStrike">
                <a:solidFill>
                  <a:srgbClr val="3333cc"/>
                </a:solidFill>
                <a:latin typeface="Arial"/>
              </a:rPr>
              <a:t>value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=“M”&gt; Male</a:t>
            </a:r>
            <a:br>
              <a:rPr sz="1600"/>
            </a:b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    &lt;</a:t>
            </a:r>
            <a:r>
              <a:rPr b="0" lang="en-IE" sz="1600" spc="-1" strike="noStrike">
                <a:solidFill>
                  <a:srgbClr val="3333cc"/>
                </a:solidFill>
                <a:latin typeface="Arial"/>
              </a:rPr>
              <a:t>input type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=radio </a:t>
            </a:r>
            <a:r>
              <a:rPr b="0" lang="en-IE" sz="1600" spc="-1" strike="noStrike">
                <a:solidFill>
                  <a:srgbClr val="3333cc"/>
                </a:solidFill>
                <a:latin typeface="Arial"/>
              </a:rPr>
              <a:t>name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=gender va</a:t>
            </a:r>
            <a:r>
              <a:rPr b="0" lang="en-IE" sz="1600" spc="-1" strike="noStrike">
                <a:solidFill>
                  <a:srgbClr val="3333cc"/>
                </a:solidFill>
                <a:latin typeface="Arial"/>
              </a:rPr>
              <a:t>l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ue=“F”&gt; Female</a:t>
            </a:r>
            <a:br>
              <a:rPr sz="1600"/>
            </a:b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  &lt;p&gt;</a:t>
            </a:r>
            <a:br>
              <a:rPr sz="1600"/>
            </a:b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  Income:</a:t>
            </a:r>
            <a:br>
              <a:rPr sz="1600"/>
            </a:b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    &lt;</a:t>
            </a:r>
            <a:r>
              <a:rPr b="0" lang="en-IE" sz="1600" spc="-1" strike="noStrike">
                <a:solidFill>
                  <a:srgbClr val="3333cc"/>
                </a:solidFill>
                <a:latin typeface="Arial"/>
              </a:rPr>
              <a:t>select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600" spc="-1" strike="noStrike">
                <a:solidFill>
                  <a:srgbClr val="3333cc"/>
                </a:solidFill>
                <a:latin typeface="Arial"/>
              </a:rPr>
              <a:t>name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=income size=1&gt;</a:t>
            </a:r>
            <a:br>
              <a:rPr sz="1600"/>
            </a:b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     &lt;</a:t>
            </a:r>
            <a:r>
              <a:rPr b="0" lang="en-IE" sz="1600" spc="-1" strike="noStrike">
                <a:solidFill>
                  <a:srgbClr val="3333cc"/>
                </a:solidFill>
                <a:latin typeface="Arial"/>
              </a:rPr>
              <a:t>option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&gt;Under £15,000</a:t>
            </a:r>
            <a:br>
              <a:rPr sz="1600"/>
            </a:b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     &lt;</a:t>
            </a:r>
            <a:r>
              <a:rPr b="0" lang="en-IE" sz="1600" spc="-1" strike="noStrike">
                <a:solidFill>
                  <a:srgbClr val="3333cc"/>
                </a:solidFill>
                <a:latin typeface="Arial"/>
              </a:rPr>
              <a:t>option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&gt; £15,001 to £25,000</a:t>
            </a:r>
            <a:br>
              <a:rPr sz="1600"/>
            </a:b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     &lt;</a:t>
            </a:r>
            <a:r>
              <a:rPr b="0" lang="en-IE" sz="1600" spc="-1" strike="noStrike">
                <a:solidFill>
                  <a:srgbClr val="3333cc"/>
                </a:solidFill>
                <a:latin typeface="Arial"/>
              </a:rPr>
              <a:t>option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&gt; £25,001 and higher</a:t>
            </a:r>
            <a:br>
              <a:rPr sz="1600"/>
            </a:b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    &lt;/</a:t>
            </a:r>
            <a:r>
              <a:rPr b="0" lang="en-IE" sz="1600" spc="-1" strike="noStrike">
                <a:solidFill>
                  <a:srgbClr val="3333cc"/>
                </a:solidFill>
                <a:latin typeface="Arial"/>
              </a:rPr>
              <a:t>select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600"/>
            </a:b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  &lt;p&gt;</a:t>
            </a:r>
            <a:br>
              <a:rPr sz="1600"/>
            </a:b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  &lt;</a:t>
            </a:r>
            <a:r>
              <a:rPr b="0" lang="en-IE" sz="1600" spc="-1" strike="noStrike">
                <a:solidFill>
                  <a:srgbClr val="3333cc"/>
                </a:solidFill>
                <a:latin typeface="Arial"/>
              </a:rPr>
              <a:t>input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600" spc="-1" strike="noStrike">
                <a:solidFill>
                  <a:srgbClr val="3333cc"/>
                </a:solidFill>
                <a:latin typeface="Arial"/>
              </a:rPr>
              <a:t>type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=submit </a:t>
            </a:r>
            <a:r>
              <a:rPr b="0" lang="en-IE" sz="1600" spc="-1" strike="noStrike">
                <a:solidFill>
                  <a:srgbClr val="3333cc"/>
                </a:solidFill>
                <a:latin typeface="Arial"/>
              </a:rPr>
              <a:t>value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="Validate"&gt;</a:t>
            </a:r>
            <a:br>
              <a:rPr sz="1600"/>
            </a:b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IE" sz="1600" spc="-1" strike="noStrike">
                <a:solidFill>
                  <a:srgbClr val="3333cc"/>
                </a:solidFill>
                <a:latin typeface="Arial"/>
              </a:rPr>
              <a:t>form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IE" sz="1600" spc="-1" strike="noStrike">
                <a:solidFill>
                  <a:srgbClr val="3333cc"/>
                </a:solidFill>
                <a:latin typeface="Arial"/>
              </a:rPr>
              <a:t>body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29200" y="3486240"/>
            <a:ext cx="3581280" cy="283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"/>
              </a:rPr>
              <a:t>The Input tag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used to specify what type of information the user is expected to place in form element like text fields, multiple-choice lists and submission but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tag has two attributes that must be def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: what kind of element i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: associates/identifies a name with it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sential for form processing progra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 There is no name attribute with a submission Button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 There may be other attributes depending on the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"/>
              </a:rPr>
              <a:t>Text-field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vides an empty box into which user can type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ttribute dictates the width of the text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XLENGTH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ttribute dictates the number of characters which the user is allowed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pecial text-field exist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sked</a:t>
            </a:r>
            <a:br>
              <a:rPr sz="3200"/>
            </a:b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- characters don’t appear on the screen when typed</a:t>
            </a:r>
            <a:br>
              <a:rPr sz="2800"/>
            </a:b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- is mainly used if the field is a password entry</a:t>
            </a:r>
            <a:br>
              <a:rPr sz="28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type=pass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895480" y="5740560"/>
            <a:ext cx="3673440" cy="81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"/>
              </a:rPr>
              <a:t>Use of the name attribute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pressing the Submit button, whatever data was entered into a form’s fields is sent to the server for process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use of field names facilitates data identification and process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 example, if I type ‘Patrice Faye’ into a text field and press the Submit button, part of the message sent to the server can be li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name=Patrice Fa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73240" y="175248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 means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erver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gram provides some ‘services’ like abilities to proces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e or mo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grams use some form of communication channel to request these services from th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communications channel ex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 is based on Clients-Servers relation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304920"/>
            <a:ext cx="7467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What does Server-Side Processing me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"/>
              </a:rPr>
              <a:t>Checkboxe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320" y="114300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llow selection and deselection of more than one item on the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6320" y="3809880"/>
            <a:ext cx="6172200" cy="251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228600" y="1523880"/>
            <a:ext cx="8458200" cy="215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ach of these checkboxes are created with separate input tags set to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An overall name for the whole structure can be giv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It is recommended to name each of the checkboxes as well as to set their value which is sent to the server if the box is click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If English, French, Spanish and German are checked then something is sent by the browser to the server like:  </a:t>
            </a:r>
            <a:r>
              <a:rPr b="0" lang="en-GB" sz="1600" spc="-1" strike="noStrike">
                <a:solidFill>
                  <a:srgbClr val="3333cc"/>
                </a:solidFill>
                <a:latin typeface="Arial"/>
              </a:rPr>
              <a:t>language= English,French,Spanish,Germ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375240" y="3809880"/>
            <a:ext cx="2616480" cy="266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99"/>
                </a:solidFill>
                <a:latin typeface="Arial"/>
              </a:rPr>
              <a:t>Radio Button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055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 can only choose one option from the ones available in the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create a radio button set the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typ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ttribute to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r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9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user submits the form something like </a:t>
            </a:r>
            <a:r>
              <a:rPr b="0" lang="en-GB" sz="1600" spc="-1" strike="noStrike">
                <a:solidFill>
                  <a:srgbClr val="3333cc"/>
                </a:solidFill>
                <a:latin typeface="Arial"/>
              </a:rPr>
              <a:t>language=Frenc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sent to th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715000" y="4038480"/>
            <a:ext cx="3181320" cy="172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8240" y="4038480"/>
            <a:ext cx="5500440" cy="172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"/>
              </a:rPr>
              <a:t>A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000099"/>
                </a:solidFill>
                <a:latin typeface="Arial"/>
              </a:rPr>
              <a:t>button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1295280"/>
            <a:ext cx="8488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submission button is compuls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2600" indent="-19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&lt;input type=submit&gt;</a:t>
            </a:r>
            <a:br>
              <a:rPr sz="20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 it can be personalised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2600" indent="-19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&lt;input type=submit value=“Validate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reset button is usually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2600" indent="-19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&lt;input type=reset&gt;</a:t>
            </a:r>
            <a:br>
              <a:rPr sz="20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r it can be personalised like: </a:t>
            </a:r>
            <a:br>
              <a:rPr sz="24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&lt;input type=reset value=“Clear all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 buttons can be placed on the form which cause action to occur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like the run of a JavaScript to open a new window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105520" y="1447920"/>
            <a:ext cx="3962160" cy="238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"/>
              </a:rPr>
              <a:t>Multi-line text area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inly provide an area on the form into which users can type whatever that will take more than one line like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 comment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 suggestions, 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uses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textarea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g which specifies how long (col=…) and how high (rows=…) the textareawill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9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777777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777777"/>
                </a:solidFill>
                <a:latin typeface="Times New Roman"/>
              </a:rPr>
              <a:t>&lt;textarea name=address cols=80 rows=5&gt;&lt;/textare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his will place a text box on the screen into which users can type. When submitted the text typed will be packaged up and sent to the server with the name </a:t>
            </a:r>
            <a:r>
              <a:rPr b="1" i="1" lang="en-GB" sz="24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"/>
              </a:rPr>
              <a:t>Multiple Choice Element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6172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ll-down menus are created by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putting a list of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lt;option&gt;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g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inside the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lt;select&gt;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ch of these options are given a name and the names of the selected ones are sent to the browser after sub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629400" y="1523880"/>
            <a:ext cx="2057400" cy="343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637320" y="2041560"/>
            <a:ext cx="2049480" cy="1273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343400" y="4038480"/>
            <a:ext cx="4648320" cy="155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304920" y="3886200"/>
            <a:ext cx="38862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option tag can have a value  associated with it, in which case that value is sent to the server if it is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5638680"/>
            <a:ext cx="8323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 than one option could be selecte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need to add the tag ‘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ultiple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"/>
              </a:rPr>
              <a:t>Processing Forms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re are two main op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rite programs which run on the server to d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e someone else’s programs, run them on the ser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st of us usually use existing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- most servers come with a program that takes form input and emails it to some specified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"/>
              </a:rPr>
              <a:t>Server-Side Processing with CGI</a:t>
            </a:r>
            <a:br>
              <a:rPr sz="3600"/>
            </a:br>
            <a:r>
              <a:rPr b="0" i="1" lang="en-GB" sz="2400" spc="-1" strike="noStrike">
                <a:solidFill>
                  <a:srgbClr val="777777"/>
                </a:solidFill>
                <a:latin typeface="Arial"/>
              </a:rPr>
              <a:t>A more advance topic from Hugh McCabe </a:t>
            </a:r>
            <a:br>
              <a:rPr sz="2400"/>
            </a:br>
            <a:r>
              <a:rPr b="0" i="1" lang="en-GB" sz="2400" spc="-1" strike="noStrike">
                <a:solidFill>
                  <a:srgbClr val="777777"/>
                </a:solidFill>
                <a:latin typeface="Arial"/>
              </a:rPr>
              <a:t>Griffith College - Dubli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"/>
              </a:rPr>
              <a:t>Server-Side Processing with PHP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P is a specialised scripting language designed to carry out sophisticated and flexible server-side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uses a mixture of C and Perl style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ynamic web content genera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as they use dynamic content gener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3160" y="1219320"/>
            <a:ext cx="8412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 con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the content of the web site is separated from the formatting information (the HTML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the content is stored in a database (in tab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users request a page, the serve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rieves the content from the 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s it as a html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s it to the user’s brow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update the content, webmasters update the database not the 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"/>
              </a:rPr>
              <a:t>Server-Side Processing with PHP - 2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4884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rite a program which queries the database (using SQL commands) and constructs HTML pages on the fly from the res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P will do this for us, so will ASP (Active Server Pa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**** What would such a program look like? ****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"/>
              </a:rPr>
              <a:t>Server-Side Processing with PHP - 3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3962520"/>
            <a:ext cx="4572000" cy="22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ly PHP code is embedded inside regular HTML f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created a database which is stored on the server and looks like this. The fields are called name and ph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876920" y="3951360"/>
            <a:ext cx="4190760" cy="214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9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 several machines there is a program which presents an interface to the user, and allows the user to enter database queries =&gt; Brow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9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rv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 few machines, is set up so that it can process incoming requests like  database queries, etc…, and send the results back to the client =&gt; Web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99"/>
                </a:solidFill>
                <a:latin typeface="Arial"/>
              </a:rPr>
              <a:t>Client &amp; Server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203480" y="992160"/>
            <a:ext cx="6264000" cy="533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html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title&gt;Web Database Sample Index&lt;/title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head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ody bgcolor=#ffffff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h1&gt;Data from Simpsons Table&lt;/h1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&lt;? mysql_connect("localhost", "webuser", ""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$query = "SELECT name, phone FROM mytable"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$result = mysql_db_query("example", $query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if ($result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{ echo "Found these entries in the database:&lt;ul&gt;"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while ($r = mysql_fetch_array($result)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{ $name = $r["name"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$phone = $r["phone"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echo "&lt;li&gt;$name, $phone"; 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echo "&lt;/ul&gt;"; 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else { echo "No data."; 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mysql_free_result($result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?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body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"/>
              </a:rPr>
              <a:t>Server-Side Processing with PHP - 4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6840" y="1371240"/>
            <a:ext cx="8488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’s have a look at th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&lt;?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icates to the server that the following code is PHP. Finish with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?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is example we are using a database system called MySQL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’s a free version of something like SQL Ser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mysql_connect("localhost", "webuser", "");</a:t>
            </a: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established a connection with the datab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$query = "SELECT name, phone FROM mytable"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are preceded with $ symbols. So this sets up a string variable which corresponds to a standard database que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$result = mysql_db_query("example", $query);</a:t>
            </a: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executes the query and stores the result in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$res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re was a result we get the follow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echo "Found these entries in the database:&lt;ul&gt;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ech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nds the contents of the string to the browser. If you send HTML tags then they will be understood as su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"/>
              </a:rPr>
              <a:t>Server-Side Processing with PHP - 5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564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hile loop then repeatedly fetches rows from the database and stored the results in variabl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$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$ph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outputs them each time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echo "&lt;li&gt;$name, $phone"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imply creates a HTML list item with the data and sends it to the browser. The result will be a web page contai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95920" y="4648320"/>
            <a:ext cx="2617200" cy="179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from Simpson’s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mer Simpson, 234-75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t Simpson, 234-66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sa Simpson, 234-77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ggie Simpson, 234-65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ge Simpson, 234-65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"/>
              </a:rPr>
              <a:t>Server-Side Processing with PHP - 6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762120" y="10666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can update the content of the web page by simply updating the data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better we can combine this with forms by using code like the follow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2583000"/>
            <a:ext cx="6324480" cy="380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html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ody bgcolor=#ffffff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&lt;? if (isset($name) &amp;&amp; isset($phone)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{ mysql_connect("localhost", "webuser", ""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$query = "INSERT INTO mytable VALUES ('$name', '$phone')"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$result = mysql_db_query("example", $query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if ($result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{ echo "&lt;p&gt;$name was added to the database&lt;/p&gt;"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} } ?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h1&gt;Add an entry&lt;/h1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form&gt; Name: &lt;input type=text name='name'&gt;&lt;br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hone: &lt;input type=text name='phone'&gt;&lt;br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input type=submit&gt; &lt;/form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body&gt; &lt;/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"/>
              </a:rPr>
              <a:t>Server-Side Processing with PHP - 7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8640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s links the form to the database in such a way that if values are entered into the form and the submit button pressed, the script is executed an SQL insert command invoked to add a new row to the DB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s means we can easily provide HTML pages to update web sites through a browser …… no knowledge of HTML required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 can issue any SQL commands we like from a PHP script e.g. commands to search the database and we can format the results in any way we lik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ig advantage is that we only have to worry about compatibility at the server side. As long as it understands PHP we’re in busines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reat tutorial about this (where this lecture’s examples were taken from) a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devshed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com/Server_Side/Administration/Database/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"/>
              </a:rPr>
              <a:t>Server-Side Processing with PHP - 8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6840" y="1371240"/>
            <a:ext cx="8488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a myriad of other technologies out there for doing this kind of thing (e.g. Microsoft’s Active Server Pages (ASP, ColdFusion, MacroMedia’s drumbeat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mbination of PHP and MySQL however is powerful, well-supported, flexible and fre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sadvantage of carrying out processing of any kind on the server is that you have to either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have control over your own server so that you can ensure the correct software is pres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or rent space on someone else’s server which you know contains the correct soft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"/>
              </a:rPr>
              <a:t>Server-Side Processing with PHP - 9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99"/>
                </a:solidFill>
                <a:latin typeface="Arial"/>
              </a:rPr>
              <a:t>Link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 instantaneous introduction to CGI scripts and HTML form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www.cc.ukans.edu/~acs/docs/other/forms-intro.shtml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HTML forms from w3org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www.w3.org/TR/REC-html40/interact/forms.html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formation on Creating Your Own Html Fill in Forms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www.webcom.com/%7Ewebcom/html/tutor/forms/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NCSA forms guid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www.ncsa.uiuc.edu/SDG/Software/Mosaic/Docs/fill-out-forms/overview.html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List of CGI Script from Yahoo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dir.yahoo.com/Computers_and_Internet/Internet/World_Wide_Web/CGI___Common_Gateway_Interface/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About Server side scripting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www.stars.com/Authoring/Scripting/WebWare/Server/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Free form processing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www.conweb.com/formsmas/index.shtml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 interactive introduction to HTML and CGI scripts on the WWW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www.it.bton.ac.uk/~mas/mas/courses/html/html2.html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lient-Server Computing and HTTP Forms</a:t>
            </a:r>
            <a:br>
              <a:rPr sz="16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ttp://www.augustana.ab.ca/~mohrj/courses/1998.fall/csc110/lecture_notes/http.html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webpresence_logo" descr=""/>
          <p:cNvPicPr/>
          <p:nvPr/>
        </p:nvPicPr>
        <p:blipFill>
          <a:blip r:embed="rId1"/>
          <a:stretch/>
        </p:blipFill>
        <p:spPr>
          <a:xfrm>
            <a:off x="3124080" y="3200400"/>
            <a:ext cx="3124440" cy="733320"/>
          </a:xfrm>
          <a:prstGeom prst="rect">
            <a:avLst/>
          </a:prstGeom>
          <a:ln w="0">
            <a:noFill/>
          </a:ln>
        </p:spPr>
      </p:pic>
      <p:pic>
        <p:nvPicPr>
          <p:cNvPr id="166" name="bs00580_" descr=""/>
          <p:cNvPicPr/>
          <p:nvPr/>
        </p:nvPicPr>
        <p:blipFill>
          <a:blip r:embed="rId2"/>
          <a:stretch/>
        </p:blipFill>
        <p:spPr>
          <a:xfrm>
            <a:off x="3657600" y="1812960"/>
            <a:ext cx="1828800" cy="1539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657600" y="38098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99"/>
                </a:solidFill>
                <a:latin typeface="Arial"/>
              </a:rPr>
              <a:t>Patrice Faye -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99"/>
                </a:solidFill>
                <a:latin typeface="Arial"/>
              </a:rPr>
              <a:t>Client-Server Relationship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029200" y="1371600"/>
            <a:ext cx="1295280" cy="1510560"/>
            <a:chOff x="5029200" y="1371600"/>
            <a:chExt cx="1295280" cy="1510560"/>
          </a:xfrm>
        </p:grpSpPr>
        <p:pic>
          <p:nvPicPr>
            <p:cNvPr id="57" name="bs00580_" descr=""/>
            <p:cNvPicPr/>
            <p:nvPr/>
          </p:nvPicPr>
          <p:blipFill>
            <a:blip r:embed="rId1"/>
            <a:stretch/>
          </p:blipFill>
          <p:spPr>
            <a:xfrm>
              <a:off x="5029200" y="1371600"/>
              <a:ext cx="129528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05160" y="2361960"/>
              <a:ext cx="994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4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br>
                <a:rPr sz="1400"/>
              </a:br>
              <a:r>
                <a:rPr b="1" lang="en-IE" sz="1400" spc="-1" strike="noStrike">
                  <a:solidFill>
                    <a:srgbClr val="000000"/>
                  </a:solidFill>
                  <a:latin typeface="Arial"/>
                </a:rPr>
                <a:t>‘Browser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" name="pe02002_" descr=""/>
          <p:cNvPicPr/>
          <p:nvPr/>
        </p:nvPicPr>
        <p:blipFill>
          <a:blip r:embed="rId2"/>
          <a:stretch/>
        </p:blipFill>
        <p:spPr>
          <a:xfrm>
            <a:off x="304920" y="1693800"/>
            <a:ext cx="3463920" cy="3468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73600" y="3686040"/>
            <a:ext cx="194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Server</a:t>
            </a:r>
            <a:br>
              <a:rPr sz="2400"/>
            </a:b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‘WebServe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03400" y="5029200"/>
            <a:ext cx="178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-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- Programs</a:t>
            </a:r>
            <a:br>
              <a:rPr sz="2400"/>
            </a:b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- etc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809880" y="2285640"/>
            <a:ext cx="1219320" cy="76212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4876920"/>
            <a:ext cx="1905120" cy="45720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14800" y="3733920"/>
            <a:ext cx="304812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7315200" y="2911320"/>
            <a:ext cx="1295280" cy="1510560"/>
            <a:chOff x="7315200" y="2911320"/>
            <a:chExt cx="1295280" cy="1510560"/>
          </a:xfrm>
        </p:grpSpPr>
        <p:pic>
          <p:nvPicPr>
            <p:cNvPr id="66" name="bs00580_" descr=""/>
            <p:cNvPicPr/>
            <p:nvPr/>
          </p:nvPicPr>
          <p:blipFill>
            <a:blip r:embed="rId3"/>
            <a:stretch/>
          </p:blipFill>
          <p:spPr>
            <a:xfrm>
              <a:off x="7315200" y="2911320"/>
              <a:ext cx="129528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391160" y="3901680"/>
              <a:ext cx="994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4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br>
                <a:rPr sz="1400"/>
              </a:br>
              <a:r>
                <a:rPr b="1" lang="en-IE" sz="1400" spc="-1" strike="noStrike">
                  <a:solidFill>
                    <a:srgbClr val="000000"/>
                  </a:solidFill>
                  <a:latin typeface="Arial"/>
                </a:rPr>
                <a:t>‘Browser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334120" y="4816440"/>
            <a:ext cx="1295280" cy="1510560"/>
            <a:chOff x="5334120" y="4816440"/>
            <a:chExt cx="1295280" cy="1510560"/>
          </a:xfrm>
        </p:grpSpPr>
        <p:pic>
          <p:nvPicPr>
            <p:cNvPr id="69" name="bs00580_" descr=""/>
            <p:cNvPicPr/>
            <p:nvPr/>
          </p:nvPicPr>
          <p:blipFill>
            <a:blip r:embed="rId4"/>
            <a:stretch/>
          </p:blipFill>
          <p:spPr>
            <a:xfrm>
              <a:off x="5334120" y="4816440"/>
              <a:ext cx="129528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5410080" y="5806800"/>
              <a:ext cx="994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4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br>
                <a:rPr sz="1400"/>
              </a:br>
              <a:r>
                <a:rPr b="1" lang="en-IE" sz="1400" spc="-1" strike="noStrike">
                  <a:solidFill>
                    <a:srgbClr val="000000"/>
                  </a:solidFill>
                  <a:latin typeface="Arial"/>
                </a:rPr>
                <a:t>‘Browser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Some processing is done on the client side (Browser) receiving requests from the user</a:t>
            </a:r>
            <a:br>
              <a:rPr sz="26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- formatting them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- sending them to the server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- receiving messages back from the server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- and displaying the results for the us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nd some is done on the server side</a:t>
            </a:r>
            <a:br>
              <a:rPr sz="26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- receiving requests from the client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- querying the database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- sending results to the cli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It is imperative that the client and the server both communicate in some agreed way:</a:t>
            </a:r>
            <a:br>
              <a:rPr sz="26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- same protocol understood (http, ftp, etc.)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- same scripting language, etc…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- of course same communication channel: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THE INTER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99"/>
                </a:solidFill>
                <a:latin typeface="Arial"/>
              </a:rPr>
              <a:t>To keep in mind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848844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web site must have a web server running so that it can respond to requests from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most of the web user they are completely invisible and transparent to 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we want to publish something on the Internet (or on a small version of it like an Intranet) we need to obtain and install a web server on the machine that will store the web site, like one of the main current web serv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ux Ap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crosoft’s Internet Information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99"/>
                </a:solidFill>
                <a:latin typeface="Arial"/>
              </a:rPr>
              <a:t>Web Server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GI means Common Gateway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GI specifies a method by which a web server passes data to a program (called a CGI script) for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CGI scripts can be written in any programming language, usually Perl, C, VBscript, etc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programs reside in a directory on the serv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gi-b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are invoked by the server when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rver invokes them when a HTML page contains an instruction to do so li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03080" y="5089680"/>
            <a:ext cx="4600440" cy="106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GB" sz="1600" spc="-1" strike="noStrike">
                <a:solidFill>
                  <a:srgbClr val="3333cc"/>
                </a:solidFill>
                <a:latin typeface="Courier New"/>
              </a:rPr>
              <a:t>form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3333cc"/>
                </a:solidFill>
                <a:latin typeface="Courier New"/>
              </a:rPr>
              <a:t>method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=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3333cc"/>
                </a:solidFill>
                <a:latin typeface="Courier New"/>
              </a:rPr>
              <a:t>action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=“/cgi-bin/myprog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GB" sz="1600" spc="-1" strike="noStrike">
                <a:solidFill>
                  <a:srgbClr val="3333cc"/>
                </a:solidFill>
                <a:latin typeface="Courier New"/>
              </a:rPr>
              <a:t>/form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"/>
              </a:rPr>
              <a:t>Server-Side Processing with CG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4952880"/>
            <a:ext cx="3504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000000"/>
                </a:solidFill>
                <a:latin typeface="Arial"/>
              </a:rPr>
              <a:t>Here is an example of a call made within a html form tha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ould instruct the server to pass the values entered into the form to the CGI program </a:t>
            </a: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mypr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2819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99"/>
                </a:solidFill>
                <a:latin typeface="Arial"/>
              </a:rPr>
              <a:t>Forms and HTML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99"/>
                </a:solidFill>
                <a:latin typeface="Arial"/>
              </a:rPr>
              <a:t>What is a form?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105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orm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 possible to collect and process user input. It opens all possible applications lik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85840"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line Shopping (e-commer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85840"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b based surv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85840"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ts of feedback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85840"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61120" y="1371600"/>
            <a:ext cx="3576600" cy="495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5T19:16:15Z</dcterms:created>
  <dc:creator>patrice</dc:creator>
  <dc:description/>
  <dc:language>en-US</dc:language>
  <cp:lastModifiedBy>pfaye</cp:lastModifiedBy>
  <dcterms:modified xsi:type="dcterms:W3CDTF">2001-01-29T18:43:39Z</dcterms:modified>
  <cp:revision>57</cp:revision>
  <dc:subject/>
  <dc:title>Forms and Server Side Processing</dc:title>
</cp:coreProperties>
</file>