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BA9-6648-4CF0-A84F-EBB23C03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3D1-5BEF-47A6-B623-DD50AF73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7A9-4AC9-4862-ACE5-B9ED146B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384-E2B9-4433-96BD-4ADD1A37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6790-F115-418E-A158-49ECBD58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E2C3-C70B-4493-ACC0-0E460BD0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AFF9-87DC-4048-A92D-A468C202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E2A5-EFE0-444B-B12E-31894AC3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D195-6749-42C6-AFA5-A3F0AF95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8B08-D17A-4408-8F31-4F949116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A788-B171-4FEB-ABB6-21C5D5DF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B4E-525C-4239-A6D5-15AACB8E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D81D-F2E6-4B75-96FD-29A5D636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A6B4-539E-45BF-B90C-9410BF50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EEB2-F9B3-48C2-A14D-16DDDD52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4DDF-229D-46BE-95FE-3EA8E0F4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CFC3-4583-4999-A003-AF3A80D0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F65-769D-4770-8377-85DD56F7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7B9-5502-4EBD-98FA-1871292E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A9A-525C-4B52-BB92-922574B8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E76-C7F1-475C-840D-FAAA12E5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3B1-D8B8-4F54-AF13-EA317F13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306-67F9-428D-B9E8-99EC5E10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97A-B243-4A48-8046-9F9BF4FE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eaeaea"/>
                </a:solidFill>
                <a:latin typeface="Aria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© Patrice Faye - Nov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C323-7809-458C-833E-02B05B6D363A}" type="slidenum">
              <a:rPr b="0" lang="en-IE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4B46-D95C-406D-9C38-E1C10D13BF65}" type="slidenum">
              <a:rPr b="0" lang="en-IE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gif"/><Relationship Id="rId3" Type="http://schemas.openxmlformats.org/officeDocument/2006/relationships/hyperlink" Target="http://www.teraflops.com/wbmp/" TargetMode="External"/><Relationship Id="rId4" Type="http://schemas.openxmlformats.org/officeDocument/2006/relationships/hyperlink" Target="http://www.teraflops.com/wbmp/" TargetMode="External"/><Relationship Id="rId5" Type="http://schemas.openxmlformats.org/officeDocument/2006/relationships/hyperlink" Target="http://www.teraflops.com/wbmp/" TargetMode="External"/><Relationship Id="rId6" Type="http://schemas.openxmlformats.org/officeDocument/2006/relationships/hyperlink" Target="http://www.teraflops.com/wbmp/" TargetMode="External"/><Relationship Id="rId7" Type="http://schemas.openxmlformats.org/officeDocument/2006/relationships/hyperlink" Target="http://www.teraflops.com/wbmp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jasc.com/tutorials.asp" TargetMode="External"/><Relationship Id="rId2" Type="http://schemas.openxmlformats.org/officeDocument/2006/relationships/hyperlink" Target="http://www.mywebgraphics.com/" TargetMode="External"/><Relationship Id="rId3" Type="http://schemas.openxmlformats.org/officeDocument/2006/relationships/hyperlink" Target="http://htmlgoodies.earthweb.com/tutors/cc.html" TargetMode="External"/><Relationship Id="rId4" Type="http://schemas.openxmlformats.org/officeDocument/2006/relationships/hyperlink" Target="http://www.ncc.com/misc/ipt_sites.html" TargetMode="External"/><Relationship Id="rId5" Type="http://schemas.openxmlformats.org/officeDocument/2006/relationships/hyperlink" Target="http://www.ncc.com/misc/ipt_sites.html" TargetMode="External"/><Relationship Id="rId6" Type="http://schemas.openxmlformats.org/officeDocument/2006/relationships/hyperlink" Target="http://msdn.microsoft.com/workshop/design/color/safety.asp" TargetMode="External"/><Relationship Id="rId7" Type="http://schemas.openxmlformats.org/officeDocument/2006/relationships/hyperlink" Target="http://www-personal.monash.edu.au/~pstagg/colourref/" TargetMode="External"/><Relationship Id="rId8" Type="http://schemas.openxmlformats.org/officeDocument/2006/relationships/hyperlink" Target="http://www-personal.monash.edu.au/~pstagg/colourref/" TargetMode="External"/><Relationship Id="rId9" Type="http://schemas.openxmlformats.org/officeDocument/2006/relationships/hyperlink" Target="http://www.drpeterjones.com/colorcalc/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mages for the Web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ccecff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aeaea"/>
                </a:solidFill>
                <a:latin typeface="Monotype Corsiva"/>
              </a:rPr>
              <a:t>Web Pres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Raster file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A raster format breaks an image into a grid of equally-sized pieces, pictures elements called pixels, and records colour information for each pix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big_pixel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4221360" cy="3365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95280" y="2590920"/>
            <a:ext cx="3429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he overall result is a juxtaposition of pixe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he quality of the image will depend on the size of the pixe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Vectors file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Mathematical functions draw elements. They are based on angles, surfaces and length facto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24480" y="3429000"/>
            <a:ext cx="2633760" cy="2633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95280" y="3581280"/>
            <a:ext cx="5029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Whatever the size of the image, the mathematical values are calculated and multiplicated, therefore the image does not lose quality with siz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3D file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Advance technology is needed to display complex tree dimensional objects and then to move a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29000" y="3781440"/>
            <a:ext cx="20480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A bit of bit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A bit is the smallest amount of information a computer can manage (it is even the only one…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A bit stores 2 values (0/1 or ON/OFF). </a:t>
            </a:r>
            <a:r>
              <a:rPr b="0" i="1" lang="en-IE" sz="2800" spc="-1" strike="noStrike">
                <a:solidFill>
                  <a:srgbClr val="eaeaea"/>
                </a:solidFill>
                <a:latin typeface="Arial"/>
              </a:rPr>
              <a:t>That’s why you certainly heard about binary with computer stuff</a:t>
            </a: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So, let’s calculate a bit </a:t>
            </a:r>
            <a:r>
              <a:rPr b="0" lang="en-IE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An 8-bit image can display 2</a:t>
            </a:r>
            <a:r>
              <a:rPr b="0" lang="en-IE" sz="2400" spc="-1" strike="noStrike" baseline="30000">
                <a:solidFill>
                  <a:srgbClr val="eaeaea"/>
                </a:solidFill>
                <a:latin typeface="Arial"/>
              </a:rPr>
              <a:t>8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=256 colou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a 16-bit image can display 2</a:t>
            </a:r>
            <a:r>
              <a:rPr b="0" lang="en-IE" sz="2400" spc="-1" strike="noStrike" baseline="30000">
                <a:solidFill>
                  <a:srgbClr val="eaeaea"/>
                </a:solidFill>
                <a:latin typeface="Arial"/>
              </a:rPr>
              <a:t>16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=65,536 colou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a 24-bit image can display 2</a:t>
            </a:r>
            <a:r>
              <a:rPr b="0" lang="en-IE" sz="2400" spc="-1" strike="noStrike" baseline="30000">
                <a:solidFill>
                  <a:srgbClr val="eaeaea"/>
                </a:solidFill>
                <a:latin typeface="Arial"/>
              </a:rPr>
              <a:t>24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=16,777,216 colou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So what about bit depth?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It is the number of bits of colour information available for each pix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Bit depth is also referred to as</a:t>
            </a:r>
            <a:br>
              <a:rPr sz="3200"/>
            </a:b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00"/>
                </a:solidFill>
                <a:latin typeface="Arial"/>
              </a:rPr>
              <a:t>Colour Dep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mage formats for the web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Common typ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GIF (raste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Supports 8-bit (256) colours. There are two versions of GIF: 89a, which can save transparency and animation information, and 87a, which canno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JPEG (raste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Supports 24-bit (16.7 million) colou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PNG (raste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Supports up to 24-bit (16.7 million) colour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WBMP (Wap image forma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3D imag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Other formats (usually vector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Flash typ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Still vide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Gifs (Graphics Interchange Format) 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GIF is one of the two most popular image formats used on the Internet. It supports up to 8-bit colour depth images (256 colours), and it is optimized for high contrast images and blocks of colou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GIF89a supports animation as well as single colour transparency. It does not support lay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Animated GIF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he 89a GIF option format allows to switch one GIF image after the other and therefore creating ani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Special software can help creating ani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4419720"/>
            <a:ext cx="1143000" cy="17524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at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143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nterlaced download effec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The Interlace options determine how an image appears as it is downloaded. It is part of the GIF 89a image type.</a:t>
            </a:r>
            <a:br>
              <a:rPr sz="3200"/>
            </a:b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Non-interlaced</a:t>
            </a:r>
            <a:br>
              <a:rPr sz="2400"/>
            </a:b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The image downloads one line a time, starting from the top to the bott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Interlaced</a:t>
            </a:r>
            <a:br>
              <a:rPr sz="2400"/>
            </a:b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The image is displayed incrementally in several passes and detail is added each p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Non interlaced image downloa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3276360"/>
            <a:ext cx="533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93680" y="3886200"/>
            <a:ext cx="1649520" cy="117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922480" y="3881520"/>
            <a:ext cx="1649520" cy="61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1649520" cy="1531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1649520" cy="2165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581280" y="32767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327672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2767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117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his option is usually the default option of the major image editing software, therefore often used on the web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nterlaced image downloa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17720" y="1819440"/>
            <a:ext cx="2487600" cy="1609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14600" y="2624040"/>
            <a:ext cx="2487600" cy="1609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294080" y="3733920"/>
            <a:ext cx="2487600" cy="1609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275520" y="4724280"/>
            <a:ext cx="2487600" cy="1609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124080" y="1752120"/>
            <a:ext cx="457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2590920"/>
            <a:ext cx="457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733920"/>
            <a:ext cx="457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4648320"/>
            <a:ext cx="457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1752480"/>
            <a:ext cx="396252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his option is useful with large imag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he viewer can get an idea of how the image looks while waiting for it to be downloa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When would you use the GIF format?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When you need single color transpare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When you need a single file animation for use on the Intern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When the image has fewer than or will look acceptable with fewer than 256 colou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When the image contains high contrasts or large blocks of colou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ccecff"/>
                </a:solidFill>
                <a:latin typeface="Arial Black"/>
              </a:rPr>
              <a:t>Jpeg (Joint Photographic Experts Group)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JPEG (extension JPG) is one of the two most popular image formats used on the Intern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It is optimized for photographic images and other continuous tone images, but does not do very well with line art, screenshots, cartoons and other high contrast im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It provides variable com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It does not support transparency or lay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When would you use JPG?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When you need 24-bit colou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When the image is a photograph or contains continuous t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For distributing on the Intern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PNG (Portable Network Graphics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It supports 24-bit colou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It transmits and stores bitmapped imag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It was created specifically for the Internet and other networ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It provides alpha transparency, high colour support, and slightly better compression than GI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Browsers may not completely support P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It does not support lay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When would you use PNG?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For high colour alpha transpare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For lossless compression of high colour imag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Embedded object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In an HTML document you can display active elements that have to be downloaded and that can also display imag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Flash animations (that can display one still imag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Java apple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WBMP (Wireless Bitmap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Graphic format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 optimi</a:t>
            </a: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d for mobile</a:t>
            </a: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de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 WBMP image is identified using a TypeField value, which describes encoding information</a:t>
            </a: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Pix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Palette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rganisatio</a:t>
            </a: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mpr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BMP is part of the Wireless Application Protocol</a:t>
            </a: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 and has 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haracteristics according</a:t>
            </a: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ly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No compressio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ne </a:t>
            </a: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bit </a:t>
            </a: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olor (white=1, black=0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ne bit deep (monochrome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15000" y="1676520"/>
            <a:ext cx="1143000" cy="17524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WBMP examp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Original GIF im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WBM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9" name="patwap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1143000" cy="1646280"/>
          </a:xfrm>
          <a:prstGeom prst="rect">
            <a:avLst/>
          </a:prstGeom>
          <a:ln w="0">
            <a:noFill/>
          </a:ln>
        </p:spPr>
      </p:pic>
      <p:pic>
        <p:nvPicPr>
          <p:cNvPr id="190" name="pat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1143000" cy="164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20560" y="5459400"/>
            <a:ext cx="49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Times New Roman"/>
              </a:rPr>
              <a:t>Online image converter used for this example:</a:t>
            </a:r>
            <a:br>
              <a:rPr sz="2000"/>
            </a:br>
            <a:r>
              <a:rPr b="0" lang="en-IE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eraflops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com/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bmp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Why using images on a web site?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o show pictu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o show log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o use specific fo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o use specific colou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o fill empty sp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Bring some animation:</a:t>
            </a:r>
            <a:br>
              <a:rPr sz="2800"/>
            </a:b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- animated gif</a:t>
            </a:r>
            <a:br>
              <a:rPr sz="2800"/>
            </a:b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- DHTML/scripts (image swapi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About Transparency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mage transparency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You want to use the same logo/image on several different pages that have different background colou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You want people to see the logo/image subject with their personal background (or with your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Use of the GIF 89a coding standar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mage resolutio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It is the number of Pixels Per Inch (ppi) or per centimeter in the im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An image for the web usually has a resolution of about 72 pixels per in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Note</a:t>
            </a: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he resolution’s level is based on what you want to reach with the ima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he printing resolution is different than the screen resol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he printing device has its own resolution. By creating an image at about 1.5 to 2 times the printer resolution (measured in dots per inch, or dpi) of the printer should produce the best result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mage colours display limit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About the hardware limi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Monitors technology (Tuner, TFT,etc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Video cards (AGP, 3D, etc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Memory available (the more the bette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About the software limi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Browser colour reservation (40 colour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he 216 colours browser safe palette </a:t>
            </a:r>
            <a:br>
              <a:rPr sz="2800"/>
            </a:b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(256-40=216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The RGB colour method (Red Green Blue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This method divides colour into red, green, and blue l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Each pixel is a mix of the above 3 colou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Each colour value can be taken from 0 to 25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43000" y="4433760"/>
            <a:ext cx="2604960" cy="1433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824280" y="4462560"/>
            <a:ext cx="2565360" cy="1404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491160" y="4481640"/>
            <a:ext cx="2546640" cy="1385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19320" y="4495680"/>
            <a:ext cx="914400" cy="114300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495680"/>
            <a:ext cx="914400" cy="1143000"/>
          </a:xfrm>
          <a:prstGeom prst="ellipse">
            <a:avLst/>
          </a:prstGeom>
          <a:noFill/>
          <a:ln cap="sq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4495680"/>
            <a:ext cx="914400" cy="1143000"/>
          </a:xfrm>
          <a:prstGeom prst="ellipse">
            <a:avLst/>
          </a:prstGeom>
          <a:noFill/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ccecff"/>
                </a:solidFill>
                <a:latin typeface="Arial Black"/>
              </a:rPr>
              <a:t>The HSL colour method (Hue/Saturation/Lightness)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he HSL method divides colours values into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Hue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 refers to ti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Saturation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 to the purity of the hu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Lightness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 to the brightness of the hue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Changing these three factors changes the color we se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43000" y="4433760"/>
            <a:ext cx="2604960" cy="1433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24280" y="4462560"/>
            <a:ext cx="2565360" cy="1404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491160" y="4481640"/>
            <a:ext cx="2546640" cy="1385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57400" y="4495680"/>
            <a:ext cx="914400" cy="114300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4495680"/>
            <a:ext cx="914400" cy="1143000"/>
          </a:xfrm>
          <a:prstGeom prst="ellipse">
            <a:avLst/>
          </a:prstGeom>
          <a:noFill/>
          <a:ln cap="sq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4495680"/>
            <a:ext cx="914400" cy="1143000"/>
          </a:xfrm>
          <a:prstGeom prst="ellipse">
            <a:avLst/>
          </a:prstGeom>
          <a:noFill/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The HTML colour co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HTML will display RGB colour based on an hexadecimal code</a:t>
            </a:r>
            <a:br>
              <a:rPr sz="2800"/>
            </a:b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FROM</a:t>
            </a: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zero in decimal (0x0x0) or hexa (#000000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O</a:t>
            </a: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255 in decimal (0x0x0) or hexa (#FFFFFF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43000" y="4433760"/>
            <a:ext cx="2604960" cy="1433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824280" y="4462560"/>
            <a:ext cx="2565360" cy="1404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491160" y="4481640"/>
            <a:ext cx="2546640" cy="1385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5334120"/>
            <a:ext cx="1904760" cy="68580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5334120"/>
            <a:ext cx="1904760" cy="685800"/>
          </a:xfrm>
          <a:prstGeom prst="ellipse">
            <a:avLst/>
          </a:prstGeom>
          <a:noFill/>
          <a:ln cap="sq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5334120"/>
            <a:ext cx="1905120" cy="685800"/>
          </a:xfrm>
          <a:prstGeom prst="ellipse">
            <a:avLst/>
          </a:prstGeom>
          <a:noFill/>
          <a:ln cap="sq"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True Colou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It is the common name for 24-bit colou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rue” is used because the human eye can distinguish among approximately six million different colou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his is fewer than the number of colours available in a 24-bit colour system that uses 8 bits for each RGB chann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With 32-bit colour depth, another 8 bits are used for an Alpha Chann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ccecff"/>
                </a:solidFill>
                <a:latin typeface="Arial Black"/>
              </a:rPr>
              <a:t>Example of Paint Shop Pro Colour dialog box setting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Basic colou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HSF val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RGB valu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HTML co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jasc_colours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792240" cy="4407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3733920" y="2895480"/>
            <a:ext cx="1447560" cy="152640"/>
          </a:xfrm>
          <a:prstGeom prst="line">
            <a:avLst/>
          </a:prstGeom>
          <a:ln cap="sq" w="507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581280" y="4952520"/>
            <a:ext cx="1866960" cy="228600"/>
          </a:xfrm>
          <a:prstGeom prst="line">
            <a:avLst/>
          </a:prstGeom>
          <a:ln cap="sq" w="507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581280" y="5562360"/>
            <a:ext cx="2133720" cy="152280"/>
          </a:xfrm>
          <a:prstGeom prst="line">
            <a:avLst/>
          </a:prstGeom>
          <a:ln cap="sq" w="507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43400"/>
            <a:ext cx="2514600" cy="380880"/>
          </a:xfrm>
          <a:prstGeom prst="line">
            <a:avLst/>
          </a:prstGeom>
          <a:ln cap="sq" w="5076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The Netscape colour palett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It is a set of 216 colours that is based on the RGB palette with increments of 20%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Instead of a 255x255x255 (16 Million) colour palette, there ia a 6x6x6 (216) colour palet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31687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ecimal valu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       51      102      153     204     25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% equivalent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%    20%    40%    60%    80%   100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Guidelines when using imag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In front of a web page, you should ask yourself some ques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The more precise the answers, the more efficient the resul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Why using the Netscape colour palette?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It is called the browser safe colour palet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All the browsers are able (should be) to display these 216 colour correct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You save download time as images are usually smal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mage compressio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Loosing data or no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Compression is the process by which some of an image's data is either stored in patterns or eliminated in order to reduce file si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The compression loses some of the original data, but it does so by exploiting the fact that small changes in colour are less noticeable than changes in bright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Two main compression result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Lossless Compres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Compression method that retains all of the original image data and reduces the file size by storing patterns of pixels in the im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Lossy Compres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aeaea"/>
                </a:solidFill>
                <a:latin typeface="Arial"/>
              </a:rPr>
              <a:t>Compression method that eliminates data to reduce the file si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Some Encoding Compression Standard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Huffman Encoding Compr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Lossless compression that replaces the most common elements with smaller shorthand codes and a key to decode the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LZW Compr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Lossless compression that groups blocks of colour together. GIF uses this compress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LZ77 Compr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LZ77 Compression achieves the best compression rates. Some layered images will compress up to 75%. It is much slower than RLE compression, but it eliminates the need to ZIP or otherwise recompress files for transport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CODE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Stands for Compression/Decompression. CODECs are algorithms used in multimedia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To rememb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Most Web browsers recognize GIF and JPEG forma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Newer Web browsers can also recognize the PNG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Conclusion when you save images for the Web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There are some major issues to consi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The file Siz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Try to reduce the image size while keeping the quality as high as possibl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The color Dep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eaeaea"/>
                </a:solidFill>
                <a:latin typeface="Arial"/>
              </a:rPr>
              <a:t>Web browsers can produce colour distortion. If you control the color depth of the image before placing it on the Web page, its appearance will be more consist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… 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and of course all the others that you didn’t think about  </a:t>
            </a:r>
            <a:r>
              <a:rPr b="0" lang="en-IE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More about imag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Paint Shop Pro tutorials ***</a:t>
            </a:r>
            <a:br>
              <a:rPr sz="2400"/>
            </a:br>
            <a:r>
              <a:rPr b="0" lang="en-IE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jasc.com/tutorials.asp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Free online resources for graphics ***</a:t>
            </a:r>
            <a:br>
              <a:rPr sz="2400"/>
            </a:br>
            <a:r>
              <a:rPr b="0" lang="en-IE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mywebgraphics.com/</a:t>
            </a:r>
            <a:r>
              <a:rPr b="0" lang="en-IE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HTML goodies colours tutorials **</a:t>
            </a:r>
            <a:br>
              <a:rPr sz="2400"/>
            </a:br>
            <a:r>
              <a:rPr b="0" lang="en-IE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htmlgoodies.earthweb.com/tutors/cc.html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Image processing resource list</a:t>
            </a:r>
            <a:br>
              <a:rPr sz="2400"/>
            </a:br>
            <a:r>
              <a:rPr b="0" lang="en-IE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ncc.com/misc/ipt_sites.</a:t>
            </a:r>
            <a:r>
              <a:rPr b="0" lang="en-IE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m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Browser safe palette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reference</a:t>
            </a:r>
            <a:br>
              <a:rPr sz="2400"/>
            </a:br>
            <a:r>
              <a:rPr b="0" lang="en-IE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msdn.microsoft.com/workshop/design/color/safety.asp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400"/>
            </a:br>
            <a:r>
              <a:rPr b="0" lang="en-IE" sz="1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</a:t>
            </a:r>
            <a:r>
              <a:rPr b="0" lang="en-IE" sz="1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://www-personal.monash.edu.au/~pstagg/colourref/</a:t>
            </a:r>
            <a:r>
              <a:rPr b="0" lang="en-IE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RGB colour calculator by Greg</a:t>
            </a:r>
            <a:br>
              <a:rPr sz="2400"/>
            </a:br>
            <a:r>
              <a:rPr b="0" lang="en-IE" sz="16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drpeterjones.com/colorcalc/</a:t>
            </a:r>
            <a:r>
              <a:rPr b="0" lang="en-IE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ccecff"/>
                </a:solidFill>
                <a:latin typeface="Arial Black"/>
              </a:rPr>
              <a:t>Keep in min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It is not enough to assume your choices when you use flashy colours, huge images or very uncommon layou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You are better of trying to please your targetted audi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Example of ques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How many coulours in total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How long will it take to download the page with a 56Kbps modem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Will the page display the same result under different resolution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What will another browser displa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Why do you like the page as it is n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Key elements of an imag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Ty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Siz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Number of colours (depth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Transparen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Resol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aeaea"/>
                </a:solidFill>
                <a:latin typeface="Arial"/>
              </a:rPr>
              <a:t>Compres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Image typ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ecff"/>
                </a:solidFill>
                <a:latin typeface="Arial Black"/>
              </a:rPr>
              <a:t>The main image file formats (definition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Raster File Forma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aeaea"/>
                </a:solidFill>
                <a:latin typeface="Arial"/>
              </a:rPr>
              <a:t>It is composed of units of light, called pixels, which are laid out on a grid. If you increase the magnification of an image, you can see these pixels. They appear as squares in the screen. A Raster program creates objects by grouping pixels with information about each pixel colo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aeaea"/>
                </a:solidFill>
                <a:latin typeface="Arial"/>
              </a:rPr>
              <a:t>This makes the format a good choice to use for saving photograph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aeaea"/>
                </a:solidFill>
                <a:latin typeface="Arial"/>
              </a:rPr>
              <a:t>An image in the Raster format is resolution-dependent. You specify the resolution and pixel dimensions when you create the imag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Vector File Forma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aeaea"/>
                </a:solidFill>
                <a:latin typeface="Arial"/>
              </a:rPr>
              <a:t>It is composed of mathematical instructions for drawing the image. Each object in a Vector image is stored as a separate item with information about its relative position in the image, its starting and ending points, width, color, and curve inform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aeaea"/>
                </a:solidFill>
                <a:latin typeface="Arial"/>
              </a:rPr>
              <a:t>This makes them suitable for logos, fonts, and line drawing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aeaea"/>
                </a:solidFill>
                <a:latin typeface="Arial"/>
              </a:rPr>
              <a:t>An image in the Vector format is resolution-independent. It can be resized without losing detail because it is stored as a set of instructions that each time, recreates the imag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aeaea"/>
                </a:solidFill>
                <a:latin typeface="Arial"/>
              </a:rPr>
              <a:t>3D File forma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It is a three-dimensional objects and environments description. Appropriate software are needed to produce images of these objects and environment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349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VRML format is an example used to add 3D objects and worlds to web pages. The  browser needs to have the ability of displaying VRML (plug-in) in order for the user to see a 3D image and be able to move around, etc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1:46:45Z</dcterms:created>
  <dc:creator>patrice</dc:creator>
  <dc:description/>
  <dc:language>en-US</dc:language>
  <cp:lastModifiedBy>pfaye</cp:lastModifiedBy>
  <dcterms:modified xsi:type="dcterms:W3CDTF">2000-11-14T13:29:53Z</dcterms:modified>
  <cp:revision>179</cp:revision>
  <dc:subject/>
  <dc:title>Images on the Web</dc:title>
</cp:coreProperties>
</file>