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522-5380-4B63-9FA9-616F3B10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9B4-517F-4F1B-89BF-9A47F41B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85A-559E-455A-9CE7-B2A74550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034-268C-4CEB-8A03-DF7464F1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9A1D-1129-4CB0-AE3C-FB7E9983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BF9C-8922-4F1D-80C8-A98BBF3B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2CA3-0E04-4FB6-B403-76FB7375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0127-6111-4421-8501-D2049274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6F0D-D90C-4584-BCC7-7F726CC2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170F-B631-400C-88D9-CEE54E14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9269-7FAE-4117-86DD-FF3FCD41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3E6-BA5A-4554-9971-4772913D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EA73-370D-4444-81CD-CE0B7E1D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DD05-EFB0-4CBF-B501-1BFA6AA3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4CDC-A241-4E9E-81E3-6A4726FB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89B0-CF33-45B9-B349-0CE9ACA3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46EC-37E0-4375-908E-2895D275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464-EE1D-40FA-A6E3-BE11F43C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1B4-FE18-4BA1-BCF3-52F8D077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114-A0C0-437D-9A34-15506D06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DBA-FDD8-48E3-83D1-7EEEF959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FEA-9F8E-4982-970D-A786D474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3ED-78EA-469C-A43D-D63CA80A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5CD-1444-4644-BA2A-341FC7C5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F674-D9B5-4F93-A04F-88DD51858CD2}" type="slidenum">
              <a:rPr b="0" lang="en-IE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6666ff"/>
              </a:solidFill>
              <a:latin typeface="Arial Black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8" name="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B9D4-8C41-4FB4-8895-BD2F7C739124}" type="slidenum">
              <a:rPr b="0" lang="en-IE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600" spc="-1" strike="noStrike">
                <a:solidFill>
                  <a:srgbClr val="6666ff"/>
                </a:solidFill>
                <a:latin typeface="Arial Black"/>
              </a:rPr>
              <a:t>Page Layout</a:t>
            </a:r>
            <a:br>
              <a:rPr sz="6600"/>
            </a:br>
            <a:endParaRPr b="0" lang="en-US" sz="6600" spc="-1" strike="noStrike">
              <a:solidFill>
                <a:srgbClr val="6666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266720" y="4733640"/>
            <a:ext cx="4869000" cy="377640"/>
          </a:xfrm>
          <a:prstGeom prst="rect">
            <a:avLst/>
          </a:prstGeom>
          <a:solidFill>
            <a:srgbClr val="6666ff"/>
          </a:solidFill>
          <a:ln w="12600">
            <a:solidFill>
              <a:srgbClr val="6666ff"/>
            </a:solidFill>
            <a:miter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or Web 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213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Arial Black"/>
              </a:rPr>
              <a:t>Tables examp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1" name="table001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6549840" cy="2525760"/>
          </a:xfrm>
          <a:prstGeom prst="rect">
            <a:avLst/>
          </a:prstGeom>
          <a:ln w="0">
            <a:noFill/>
          </a:ln>
        </p:spPr>
      </p:pic>
      <p:pic>
        <p:nvPicPr>
          <p:cNvPr id="222" name="table002" descr=""/>
          <p:cNvPicPr/>
          <p:nvPr/>
        </p:nvPicPr>
        <p:blipFill>
          <a:blip r:embed="rId2"/>
          <a:stretch/>
        </p:blipFill>
        <p:spPr>
          <a:xfrm>
            <a:off x="76320" y="4141800"/>
            <a:ext cx="6378480" cy="26398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76920" y="2514240"/>
            <a:ext cx="880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Build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43800" y="3505320"/>
            <a:ext cx="1066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Result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553080" y="3886200"/>
            <a:ext cx="914400" cy="68580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6705720" y="2362320"/>
            <a:ext cx="838080" cy="30456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228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Exercices with Frontpage 20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Arial Black"/>
              </a:rPr>
              <a:t>Tables with edit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7259760" y="5328720"/>
            <a:ext cx="1726920" cy="1543680"/>
            <a:chOff x="7259760" y="5328720"/>
            <a:chExt cx="1726920" cy="1543680"/>
          </a:xfrm>
        </p:grpSpPr>
        <p:sp>
          <p:nvSpPr>
            <p:cNvPr id="238" name=""/>
            <p:cNvSpPr/>
            <p:nvPr/>
          </p:nvSpPr>
          <p:spPr>
            <a:xfrm flipH="1">
              <a:off x="7259760" y="5997600"/>
              <a:ext cx="325440" cy="322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900000">
              <a:off x="7467120" y="6141600"/>
              <a:ext cx="498600" cy="4953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3500000">
              <a:off x="7591680" y="5484960"/>
              <a:ext cx="746280" cy="731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583400" y="568800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rot="13500000">
              <a:off x="8123760" y="6009480"/>
              <a:ext cx="714240" cy="714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29560" y="6391440"/>
              <a:ext cx="657360" cy="347400"/>
            </a:xfrm>
            <a:custGeom>
              <a:avLst/>
              <a:gdLst/>
              <a:ahLst/>
              <a:rect l="l" t="t" r="r" b="b"/>
              <a:pathLst>
                <a:path w="414" h="219">
                  <a:moveTo>
                    <a:pt x="0" y="218"/>
                  </a:moveTo>
                  <a:lnTo>
                    <a:pt x="207" y="217"/>
                  </a:lnTo>
                  <a:lnTo>
                    <a:pt x="413" y="0"/>
                  </a:lnTo>
                  <a:lnTo>
                    <a:pt x="203" y="0"/>
                  </a:lnTo>
                  <a:lnTo>
                    <a:pt x="0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94560" y="600876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The idea of a frame is to display more than one document at a tim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Once again, the more frame on one page, the wors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And the less visible the frames, the better the visual effec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Arial Black"/>
              </a:rPr>
              <a:t>About the use of Fram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7581960" y="5203800"/>
            <a:ext cx="1411200" cy="2067840"/>
            <a:chOff x="7581960" y="5203800"/>
            <a:chExt cx="1411200" cy="2067840"/>
          </a:xfrm>
        </p:grpSpPr>
        <p:sp>
          <p:nvSpPr>
            <p:cNvPr id="248" name=""/>
            <p:cNvSpPr/>
            <p:nvPr/>
          </p:nvSpPr>
          <p:spPr>
            <a:xfrm flipH="1" rot="2700000">
              <a:off x="8366760" y="6143760"/>
              <a:ext cx="506160" cy="512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rot="13500000">
              <a:off x="7776360" y="6409080"/>
              <a:ext cx="715680" cy="713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rot="16200000">
              <a:off x="8153640" y="520524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rot="5400000">
              <a:off x="8272440" y="5668920"/>
              <a:ext cx="71424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rot="8100000">
              <a:off x="8114040" y="5757120"/>
              <a:ext cx="319320" cy="3128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81960" y="5911920"/>
              <a:ext cx="687240" cy="234720"/>
            </a:xfrm>
            <a:custGeom>
              <a:avLst/>
              <a:gdLst/>
              <a:ahLst/>
              <a:rect l="l" t="t" r="r" b="b"/>
              <a:pathLst>
                <a:path w="433" h="148">
                  <a:moveTo>
                    <a:pt x="0" y="0"/>
                  </a:moveTo>
                  <a:lnTo>
                    <a:pt x="143" y="145"/>
                  </a:lnTo>
                  <a:lnTo>
                    <a:pt x="432" y="147"/>
                  </a:lnTo>
                  <a:lnTo>
                    <a:pt x="286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85160" y="52610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Arial Black"/>
              </a:rPr>
              <a:t>Frames exampl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57" name="frame03" descr=""/>
          <p:cNvPicPr/>
          <p:nvPr/>
        </p:nvPicPr>
        <p:blipFill>
          <a:blip r:embed="rId1"/>
          <a:stretch/>
        </p:blipFill>
        <p:spPr>
          <a:xfrm>
            <a:off x="6168960" y="1828800"/>
            <a:ext cx="2594160" cy="2743200"/>
          </a:xfrm>
          <a:prstGeom prst="rect">
            <a:avLst/>
          </a:prstGeom>
          <a:ln w="0">
            <a:noFill/>
          </a:ln>
        </p:spPr>
      </p:pic>
      <p:pic>
        <p:nvPicPr>
          <p:cNvPr id="258" name="frame07" descr=""/>
          <p:cNvPicPr/>
          <p:nvPr/>
        </p:nvPicPr>
        <p:blipFill>
          <a:blip r:embed="rId2"/>
          <a:stretch/>
        </p:blipFill>
        <p:spPr>
          <a:xfrm>
            <a:off x="606600" y="1817640"/>
            <a:ext cx="2606400" cy="2754360"/>
          </a:xfrm>
          <a:prstGeom prst="rect">
            <a:avLst/>
          </a:prstGeom>
          <a:ln w="0">
            <a:noFill/>
          </a:ln>
        </p:spPr>
      </p:pic>
      <p:pic>
        <p:nvPicPr>
          <p:cNvPr id="259" name="frame04" descr=""/>
          <p:cNvPicPr/>
          <p:nvPr/>
        </p:nvPicPr>
        <p:blipFill>
          <a:blip r:embed="rId3"/>
          <a:stretch/>
        </p:blipFill>
        <p:spPr>
          <a:xfrm>
            <a:off x="3429000" y="1806480"/>
            <a:ext cx="2571840" cy="276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802560" y="5094360"/>
            <a:ext cx="2161080" cy="1683720"/>
            <a:chOff x="6802560" y="5094360"/>
            <a:chExt cx="2161080" cy="1683720"/>
          </a:xfrm>
        </p:grpSpPr>
        <p:sp>
          <p:nvSpPr>
            <p:cNvPr id="261" name=""/>
            <p:cNvSpPr/>
            <p:nvPr/>
          </p:nvSpPr>
          <p:spPr>
            <a:xfrm flipH="1" rot="1200000">
              <a:off x="7522560" y="6213240"/>
              <a:ext cx="31752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100000">
              <a:off x="6901920" y="5195160"/>
              <a:ext cx="486000" cy="482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100000">
              <a:off x="8109720" y="5925960"/>
              <a:ext cx="708120" cy="704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rot="17280000">
              <a:off x="8219880" y="6362640"/>
              <a:ext cx="32076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7605720" y="540180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69040" y="5767560"/>
              <a:ext cx="649440" cy="347400"/>
            </a:xfrm>
            <a:custGeom>
              <a:avLst/>
              <a:gdLst/>
              <a:ahLst/>
              <a:rect l="l" t="t" r="r" b="b"/>
              <a:pathLst>
                <a:path w="409" h="219">
                  <a:moveTo>
                    <a:pt x="408" y="218"/>
                  </a:moveTo>
                  <a:lnTo>
                    <a:pt x="203" y="217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408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62920" y="5433840"/>
              <a:ext cx="315720" cy="3114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Arial Black"/>
              </a:rPr>
              <a:t>Frame examples I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70" name="frame05" descr=""/>
          <p:cNvPicPr/>
          <p:nvPr/>
        </p:nvPicPr>
        <p:blipFill>
          <a:blip r:embed="rId1"/>
          <a:stretch/>
        </p:blipFill>
        <p:spPr>
          <a:xfrm>
            <a:off x="3349800" y="1828800"/>
            <a:ext cx="2593800" cy="2743200"/>
          </a:xfrm>
          <a:prstGeom prst="rect">
            <a:avLst/>
          </a:prstGeom>
          <a:ln w="0">
            <a:noFill/>
          </a:ln>
        </p:spPr>
      </p:pic>
      <p:pic>
        <p:nvPicPr>
          <p:cNvPr id="271" name="frame06" descr=""/>
          <p:cNvPicPr/>
          <p:nvPr/>
        </p:nvPicPr>
        <p:blipFill>
          <a:blip r:embed="rId2"/>
          <a:stretch/>
        </p:blipFill>
        <p:spPr>
          <a:xfrm>
            <a:off x="6019920" y="1828800"/>
            <a:ext cx="2606400" cy="2754360"/>
          </a:xfrm>
          <a:prstGeom prst="rect">
            <a:avLst/>
          </a:prstGeom>
          <a:ln w="0">
            <a:noFill/>
          </a:ln>
        </p:spPr>
      </p:pic>
      <p:pic>
        <p:nvPicPr>
          <p:cNvPr id="272" name="frame02" descr=""/>
          <p:cNvPicPr/>
          <p:nvPr/>
        </p:nvPicPr>
        <p:blipFill>
          <a:blip r:embed="rId3"/>
          <a:stretch/>
        </p:blipFill>
        <p:spPr>
          <a:xfrm>
            <a:off x="669960" y="1806480"/>
            <a:ext cx="2606760" cy="276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274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Exercices with Frontpage 20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Arial Black"/>
              </a:rPr>
              <a:t>Frames with edit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284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Keep in mind, the most important is the content of the web sit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Try to think about the site as a whole before using any tool (know what you want to do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Mix the usage of styles, tables, fram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Keep any tool usage as light and efficient as possibl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294" name="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/>
              <a:ahLst/>
              <a:rect l="l" t="t" r="r" b="b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302" name="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/>
              <a:ahLst/>
              <a:rect l="l" t="t" r="r" b="b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310" name="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/>
              <a:ahLst/>
              <a:rect l="l" t="t" r="r" b="b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318" name="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/>
              <a:ahLst/>
              <a:rect l="l" t="t" r="r" b="b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001880" y="3641400"/>
            <a:ext cx="1450800" cy="1122840"/>
            <a:chOff x="1001880" y="3641400"/>
            <a:chExt cx="1450800" cy="1122840"/>
          </a:xfrm>
        </p:grpSpPr>
        <p:sp>
          <p:nvSpPr>
            <p:cNvPr id="326" name=""/>
            <p:cNvSpPr/>
            <p:nvPr/>
          </p:nvSpPr>
          <p:spPr>
            <a:xfrm flipH="1">
              <a:off x="1231200" y="374184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31920" y="420372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3500000">
              <a:off x="1365120" y="377784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6200000">
              <a:off x="1479240" y="4111560"/>
              <a:ext cx="650880" cy="647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0800000">
              <a:off x="1690200" y="3641400"/>
              <a:ext cx="306360" cy="307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5400000">
              <a:off x="2139840" y="410472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01880" y="4546440"/>
              <a:ext cx="687240" cy="217800"/>
            </a:xfrm>
            <a:custGeom>
              <a:avLst/>
              <a:gdLst/>
              <a:ahLst/>
              <a:rect l="l" t="t" r="r" b="b"/>
              <a:pathLst>
                <a:path w="433" h="137">
                  <a:moveTo>
                    <a:pt x="0" y="136"/>
                  </a:moveTo>
                  <a:lnTo>
                    <a:pt x="297" y="135"/>
                  </a:lnTo>
                  <a:lnTo>
                    <a:pt x="432" y="0"/>
                  </a:lnTo>
                  <a:lnTo>
                    <a:pt x="429" y="1"/>
                  </a:lnTo>
                  <a:lnTo>
                    <a:pt x="135" y="0"/>
                  </a:lnTo>
                  <a:lnTo>
                    <a:pt x="131" y="4"/>
                  </a:lnTo>
                  <a:lnTo>
                    <a:pt x="0" y="135"/>
                  </a:lnTo>
                  <a:lnTo>
                    <a:pt x="0" y="136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863800" y="3660480"/>
            <a:ext cx="1292400" cy="1092600"/>
            <a:chOff x="2863800" y="3660480"/>
            <a:chExt cx="1292400" cy="1092600"/>
          </a:xfrm>
        </p:grpSpPr>
        <p:sp>
          <p:nvSpPr>
            <p:cNvPr id="334" name=""/>
            <p:cNvSpPr/>
            <p:nvPr/>
          </p:nvSpPr>
          <p:spPr>
            <a:xfrm>
              <a:off x="3833640" y="4425840"/>
              <a:ext cx="32256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8100000">
              <a:off x="3036600" y="3793680"/>
              <a:ext cx="64440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0800000">
              <a:off x="317340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6200000">
              <a:off x="2879640" y="442872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rot="5400000">
              <a:off x="3512880" y="44254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63800" y="4091040"/>
              <a:ext cx="639720" cy="334800"/>
            </a:xfrm>
            <a:custGeom>
              <a:avLst/>
              <a:gdLst/>
              <a:ahLst/>
              <a:rect l="l" t="t" r="r" b="b"/>
              <a:pathLst>
                <a:path w="403" h="211">
                  <a:moveTo>
                    <a:pt x="0" y="0"/>
                  </a:moveTo>
                  <a:lnTo>
                    <a:pt x="211" y="210"/>
                  </a:lnTo>
                  <a:lnTo>
                    <a:pt x="402" y="210"/>
                  </a:lnTo>
                  <a:lnTo>
                    <a:pt x="399" y="208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 flipH="1" rot="18900000">
            <a:off x="2650680" y="4211640"/>
            <a:ext cx="446040" cy="446040"/>
          </a:xfrm>
          <a:prstGeom prst="rtTriangle">
            <a:avLst/>
          </a:prstGeom>
          <a:solidFill>
            <a:srgbClr val="669900"/>
          </a:solidFill>
          <a:ln w="126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962240" y="3766320"/>
            <a:ext cx="1351080" cy="1477800"/>
            <a:chOff x="4962240" y="3766320"/>
            <a:chExt cx="1351080" cy="1477800"/>
          </a:xfrm>
        </p:grpSpPr>
        <p:sp>
          <p:nvSpPr>
            <p:cNvPr id="342" name=""/>
            <p:cNvSpPr/>
            <p:nvPr/>
          </p:nvSpPr>
          <p:spPr>
            <a:xfrm flipH="1" rot="13500000">
              <a:off x="5511960" y="446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962240" y="3766320"/>
              <a:ext cx="1351080" cy="1008720"/>
              <a:chOff x="4962240" y="3766320"/>
              <a:chExt cx="1351080" cy="1008720"/>
            </a:xfrm>
          </p:grpSpPr>
          <p:sp>
            <p:nvSpPr>
              <p:cNvPr id="344" name=""/>
              <p:cNvSpPr/>
              <p:nvPr/>
            </p:nvSpPr>
            <p:spPr>
              <a:xfrm flipH="1" rot="5400000">
                <a:off x="4969080" y="4329000"/>
                <a:ext cx="434880" cy="44136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73480" y="3981600"/>
                <a:ext cx="322560" cy="32688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rot="2700000">
                <a:off x="5095440" y="3986280"/>
                <a:ext cx="644400" cy="64440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8100000">
                <a:off x="5076360" y="3830760"/>
                <a:ext cx="31428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rot="8100000">
                <a:off x="5927040" y="4176360"/>
                <a:ext cx="32040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76800" y="4087800"/>
                <a:ext cx="217800" cy="687240"/>
              </a:xfrm>
              <a:custGeom>
                <a:avLst/>
                <a:gdLst/>
                <a:ahLst/>
                <a:rect l="l" t="t" r="r" b="b"/>
                <a:pathLst>
                  <a:path w="137" h="433">
                    <a:moveTo>
                      <a:pt x="0" y="0"/>
                    </a:moveTo>
                    <a:lnTo>
                      <a:pt x="1" y="297"/>
                    </a:lnTo>
                    <a:lnTo>
                      <a:pt x="136" y="432"/>
                    </a:lnTo>
                    <a:lnTo>
                      <a:pt x="135" y="429"/>
                    </a:lnTo>
                    <a:lnTo>
                      <a:pt x="136" y="135"/>
                    </a:lnTo>
                    <a:lnTo>
                      <a:pt x="132" y="13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9900"/>
              </a:solidFill>
              <a:ln w="12600">
                <a:solidFill>
                  <a:srgbClr val="66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6873480" y="3225960"/>
            <a:ext cx="1398960" cy="1531440"/>
            <a:chOff x="6873480" y="3225960"/>
            <a:chExt cx="1398960" cy="1531440"/>
          </a:xfrm>
        </p:grpSpPr>
        <p:sp>
          <p:nvSpPr>
            <p:cNvPr id="351" name=""/>
            <p:cNvSpPr/>
            <p:nvPr/>
          </p:nvSpPr>
          <p:spPr>
            <a:xfrm rot="18900000">
              <a:off x="7174080" y="3763440"/>
              <a:ext cx="314280" cy="32076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2700000">
              <a:off x="7494120" y="3816360"/>
              <a:ext cx="64440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5400000">
              <a:off x="734544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200000">
              <a:off x="7005600" y="322524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3500000">
              <a:off x="6940440" y="3995280"/>
              <a:ext cx="324000" cy="324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31040" y="3225960"/>
              <a:ext cx="217440" cy="685800"/>
            </a:xfrm>
            <a:custGeom>
              <a:avLst/>
              <a:gdLst/>
              <a:ahLst/>
              <a:rect l="l" t="t" r="r" b="b"/>
              <a:pathLst>
                <a:path w="137" h="432">
                  <a:moveTo>
                    <a:pt x="0" y="297"/>
                  </a:moveTo>
                  <a:lnTo>
                    <a:pt x="136" y="431"/>
                  </a:lnTo>
                  <a:lnTo>
                    <a:pt x="135" y="135"/>
                  </a:lnTo>
                  <a:lnTo>
                    <a:pt x="0" y="0"/>
                  </a:lnTo>
                  <a:lnTo>
                    <a:pt x="0" y="297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700000">
              <a:off x="7133760" y="4241520"/>
              <a:ext cx="426960" cy="4273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Arial Black"/>
              </a:rPr>
              <a:t>Why is the page layout importan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4640" y="1980720"/>
            <a:ext cx="7826400" cy="33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8f8f8"/>
                </a:solidFill>
                <a:latin typeface="Arial"/>
              </a:rPr>
              <a:t>The content of the page must be easily:</a:t>
            </a:r>
            <a:br>
              <a:rPr sz="2800"/>
            </a:br>
            <a:r>
              <a:rPr b="0" lang="en-IE" sz="2800" spc="-1" strike="noStrike">
                <a:solidFill>
                  <a:srgbClr val="f8f8f8"/>
                </a:solidFill>
                <a:latin typeface="Arial"/>
              </a:rPr>
              <a:t>- accessible</a:t>
            </a:r>
            <a:br>
              <a:rPr sz="2800"/>
            </a:br>
            <a:r>
              <a:rPr b="0" lang="en-IE" sz="2800" spc="-1" strike="noStrike">
                <a:solidFill>
                  <a:srgbClr val="f8f8f8"/>
                </a:solidFill>
                <a:latin typeface="Arial"/>
              </a:rPr>
              <a:t>- understood</a:t>
            </a:r>
            <a:br>
              <a:rPr sz="2800"/>
            </a:br>
            <a:r>
              <a:rPr b="0" lang="en-IE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8f8f8"/>
                </a:solidFill>
                <a:latin typeface="Arial"/>
              </a:rPr>
              <a:t>The download time of any page must be as short as possible:</a:t>
            </a:r>
            <a:br>
              <a:rPr sz="2800"/>
            </a:br>
            <a:r>
              <a:rPr b="0" lang="en-IE" sz="2800" spc="-1" strike="noStrike">
                <a:solidFill>
                  <a:srgbClr val="f8f8f8"/>
                </a:solidFill>
                <a:latin typeface="Arial"/>
              </a:rPr>
              <a:t>- any slow element should be removed </a:t>
            </a:r>
            <a:br>
              <a:rPr sz="2800"/>
            </a:br>
            <a:r>
              <a:rPr b="0" lang="en-IE" sz="2800" spc="-1" strike="noStrike">
                <a:solidFill>
                  <a:srgbClr val="f8f8f8"/>
                </a:solidFill>
                <a:latin typeface="Arial"/>
              </a:rPr>
              <a:t>or optimised</a:t>
            </a:r>
            <a:br>
              <a:rPr sz="2800"/>
            </a:br>
            <a:r>
              <a:rPr b="0" lang="en-IE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646760" y="4708080"/>
            <a:ext cx="1339920" cy="2008800"/>
            <a:chOff x="7646760" y="4708080"/>
            <a:chExt cx="1339920" cy="2008800"/>
          </a:xfrm>
        </p:grpSpPr>
        <p:sp>
          <p:nvSpPr>
            <p:cNvPr id="121" name=""/>
            <p:cNvSpPr/>
            <p:nvPr/>
          </p:nvSpPr>
          <p:spPr>
            <a:xfrm rot="18900000">
              <a:off x="7891560" y="4889160"/>
              <a:ext cx="32364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8100000">
              <a:off x="7814880" y="4811040"/>
              <a:ext cx="495360" cy="4921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4080" y="605160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16200000">
              <a:off x="7938720" y="5678280"/>
              <a:ext cx="71460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112240" y="6396120"/>
              <a:ext cx="3124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8100000">
              <a:off x="7794000" y="5334120"/>
              <a:ext cx="7160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667720" y="6084720"/>
              <a:ext cx="318960" cy="632160"/>
            </a:xfrm>
            <a:custGeom>
              <a:avLst/>
              <a:gdLst/>
              <a:ahLst/>
              <a:rect l="l" t="t" r="r" b="b"/>
              <a:pathLst>
                <a:path w="201" h="398">
                  <a:moveTo>
                    <a:pt x="0" y="0"/>
                  </a:moveTo>
                  <a:lnTo>
                    <a:pt x="0" y="199"/>
                  </a:lnTo>
                  <a:lnTo>
                    <a:pt x="200" y="397"/>
                  </a:lnTo>
                  <a:lnTo>
                    <a:pt x="200" y="196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90560" y="1795320"/>
            <a:ext cx="591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8f8f8"/>
                </a:solidFill>
                <a:latin typeface="Arial"/>
              </a:rPr>
              <a:t>Styl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8f8f8"/>
                </a:solidFill>
                <a:latin typeface="Arial"/>
              </a:rPr>
              <a:t>Tabl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8f8f8"/>
                </a:solidFill>
                <a:latin typeface="Arial"/>
              </a:rPr>
              <a:t>Fram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240320" y="4693320"/>
            <a:ext cx="1732320" cy="2391120"/>
            <a:chOff x="7240320" y="4693320"/>
            <a:chExt cx="1732320" cy="2391120"/>
          </a:xfrm>
        </p:grpSpPr>
        <p:sp>
          <p:nvSpPr>
            <p:cNvPr id="130" name=""/>
            <p:cNvSpPr/>
            <p:nvPr/>
          </p:nvSpPr>
          <p:spPr>
            <a:xfrm flipH="1" rot="18900000">
              <a:off x="7305480" y="477180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rot="13500000">
              <a:off x="7733880" y="6500520"/>
              <a:ext cx="486360" cy="482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67480" y="49244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rot="5400000">
              <a:off x="7601760" y="5292720"/>
              <a:ext cx="714240" cy="711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rot="8100000">
              <a:off x="7769160" y="47602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0800000">
              <a:off x="7598880" y="6018120"/>
              <a:ext cx="7160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23200" y="6411960"/>
              <a:ext cx="649440" cy="323640"/>
            </a:xfrm>
            <a:custGeom>
              <a:avLst/>
              <a:gdLst/>
              <a:ahLst/>
              <a:rect l="l" t="t" r="r" b="b"/>
              <a:pathLst>
                <a:path w="409" h="204">
                  <a:moveTo>
                    <a:pt x="408" y="0"/>
                  </a:moveTo>
                  <a:lnTo>
                    <a:pt x="203" y="0"/>
                  </a:lnTo>
                  <a:lnTo>
                    <a:pt x="0" y="203"/>
                  </a:lnTo>
                  <a:lnTo>
                    <a:pt x="206" y="203"/>
                  </a:lnTo>
                  <a:lnTo>
                    <a:pt x="408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Arial Black"/>
              </a:rPr>
              <a:t>Which tools can be used 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139" name="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74640" y="160020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A coherence should exist within the whole web site with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8f8f8"/>
                </a:solidFill>
                <a:latin typeface="Arial"/>
              </a:rPr>
              <a:t>A graphic chart: to balance colours, shapes, picture size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8f8f8"/>
                </a:solidFill>
                <a:latin typeface="Arial"/>
              </a:rPr>
              <a:t>Common fonts:  to facilitate readability of the content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8f8f8"/>
                </a:solidFill>
                <a:latin typeface="Arial"/>
              </a:rPr>
              <a:t>Appropriate multimedia elements: use your common sense as too much is too much !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Arial Black"/>
              </a:rPr>
              <a:t>Styl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149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74640" y="198108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No content at all but lots of colours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Pointless vanity pages by someone showing off technical abilities…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Example of black backgrounds on the Web are often difficult to read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Pages that start by downloading some monster logo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Top of pages that are changed every time the page is accessed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Arial Black"/>
              </a:rPr>
              <a:t>Some reasons why styles should be simp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7259760" y="5328720"/>
            <a:ext cx="1726920" cy="1543680"/>
            <a:chOff x="7259760" y="5328720"/>
            <a:chExt cx="1726920" cy="1543680"/>
          </a:xfrm>
        </p:grpSpPr>
        <p:sp>
          <p:nvSpPr>
            <p:cNvPr id="159" name=""/>
            <p:cNvSpPr/>
            <p:nvPr/>
          </p:nvSpPr>
          <p:spPr>
            <a:xfrm flipH="1">
              <a:off x="7259760" y="5997600"/>
              <a:ext cx="325440" cy="322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8900000">
              <a:off x="7467120" y="6141600"/>
              <a:ext cx="498600" cy="4953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3500000">
              <a:off x="7591680" y="5484960"/>
              <a:ext cx="746280" cy="731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7583400" y="568800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13500000">
              <a:off x="8123760" y="6009480"/>
              <a:ext cx="714240" cy="714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29560" y="6391440"/>
              <a:ext cx="657360" cy="347400"/>
            </a:xfrm>
            <a:custGeom>
              <a:avLst/>
              <a:gdLst/>
              <a:ahLst/>
              <a:rect l="l" t="t" r="r" b="b"/>
              <a:pathLst>
                <a:path w="414" h="219">
                  <a:moveTo>
                    <a:pt x="0" y="218"/>
                  </a:moveTo>
                  <a:lnTo>
                    <a:pt x="207" y="217"/>
                  </a:lnTo>
                  <a:lnTo>
                    <a:pt x="413" y="0"/>
                  </a:lnTo>
                  <a:lnTo>
                    <a:pt x="203" y="0"/>
                  </a:lnTo>
                  <a:lnTo>
                    <a:pt x="0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94560" y="600876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Exercice with Frontpage 20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Arial Black"/>
              </a:rPr>
              <a:t>Styles usage with edit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581960" y="5203800"/>
            <a:ext cx="1411200" cy="2067840"/>
            <a:chOff x="7581960" y="5203800"/>
            <a:chExt cx="1411200" cy="2067840"/>
          </a:xfrm>
        </p:grpSpPr>
        <p:sp>
          <p:nvSpPr>
            <p:cNvPr id="169" name=""/>
            <p:cNvSpPr/>
            <p:nvPr/>
          </p:nvSpPr>
          <p:spPr>
            <a:xfrm flipH="1" rot="2700000">
              <a:off x="8366760" y="6143760"/>
              <a:ext cx="506160" cy="512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rot="13500000">
              <a:off x="7776360" y="6409080"/>
              <a:ext cx="715680" cy="713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rot="16200000">
              <a:off x="8153640" y="520524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5400000">
              <a:off x="8272440" y="5668920"/>
              <a:ext cx="71424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rot="8100000">
              <a:off x="8114040" y="5757120"/>
              <a:ext cx="319320" cy="3128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81960" y="5911920"/>
              <a:ext cx="687240" cy="234720"/>
            </a:xfrm>
            <a:custGeom>
              <a:avLst/>
              <a:gdLst/>
              <a:ahLst/>
              <a:rect l="l" t="t" r="r" b="b"/>
              <a:pathLst>
                <a:path w="433" h="148">
                  <a:moveTo>
                    <a:pt x="0" y="0"/>
                  </a:moveTo>
                  <a:lnTo>
                    <a:pt x="143" y="145"/>
                  </a:lnTo>
                  <a:lnTo>
                    <a:pt x="432" y="147"/>
                  </a:lnTo>
                  <a:lnTo>
                    <a:pt x="286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85160" y="52610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HTML doesn’t provide easy layout too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By using tables and minimising their borders to nothing (border = 0) components can be placed almost anywhere in a pag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Tables can be placed into ta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Arial Black"/>
              </a:rPr>
              <a:t>Tabl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676520" y="4191120"/>
            <a:ext cx="2209680" cy="1828800"/>
            <a:chOff x="1676520" y="4191120"/>
            <a:chExt cx="2209680" cy="1828800"/>
          </a:xfrm>
        </p:grpSpPr>
        <p:sp>
          <p:nvSpPr>
            <p:cNvPr id="179" name=""/>
            <p:cNvSpPr/>
            <p:nvPr/>
          </p:nvSpPr>
          <p:spPr>
            <a:xfrm>
              <a:off x="1676520" y="4191120"/>
              <a:ext cx="2209680" cy="18288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19520" y="4191120"/>
              <a:ext cx="1066680" cy="9144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76520" y="4191120"/>
              <a:ext cx="38088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57400" y="4191120"/>
              <a:ext cx="38124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38640" y="4191120"/>
              <a:ext cx="38088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6520" y="4496040"/>
              <a:ext cx="38088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57400" y="4496040"/>
              <a:ext cx="38124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8640" y="4496040"/>
              <a:ext cx="38088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76520" y="4800600"/>
              <a:ext cx="38088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57400" y="4800600"/>
              <a:ext cx="38124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38640" y="4800600"/>
              <a:ext cx="38088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6802560" y="5094360"/>
            <a:ext cx="2161080" cy="1683720"/>
            <a:chOff x="6802560" y="5094360"/>
            <a:chExt cx="2161080" cy="1683720"/>
          </a:xfrm>
        </p:grpSpPr>
        <p:sp>
          <p:nvSpPr>
            <p:cNvPr id="191" name=""/>
            <p:cNvSpPr/>
            <p:nvPr/>
          </p:nvSpPr>
          <p:spPr>
            <a:xfrm flipH="1" rot="1200000">
              <a:off x="7522560" y="6213240"/>
              <a:ext cx="31752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8100000">
              <a:off x="6901920" y="5195160"/>
              <a:ext cx="486000" cy="482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8100000">
              <a:off x="8109720" y="5925960"/>
              <a:ext cx="708120" cy="704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7280000">
              <a:off x="8219880" y="6362640"/>
              <a:ext cx="32076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8900000">
              <a:off x="7605720" y="540180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9040" y="5767560"/>
              <a:ext cx="649440" cy="347400"/>
            </a:xfrm>
            <a:custGeom>
              <a:avLst/>
              <a:gdLst/>
              <a:ahLst/>
              <a:rect l="l" t="t" r="r" b="b"/>
              <a:pathLst>
                <a:path w="409" h="219">
                  <a:moveTo>
                    <a:pt x="408" y="218"/>
                  </a:moveTo>
                  <a:lnTo>
                    <a:pt x="203" y="217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408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2920" y="5433840"/>
              <a:ext cx="315720" cy="3114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74640" y="129528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Keep the border small or not visibl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Separate the cell contents with the values of the cell padding and spacing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Use cell background properties to insert imag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Arial Black"/>
              </a:rPr>
              <a:t>Table layout tip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752480" y="3124080"/>
            <a:ext cx="3733920" cy="347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202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800240" y="179532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8f8f8"/>
                </a:solidFill>
                <a:latin typeface="Arial"/>
              </a:rPr>
              <a:t>Tables within tables (well, this one is possible, but maybe not that recommended…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Arial Black"/>
              </a:rPr>
              <a:t>Tables exampl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1" name="table01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275360" cy="483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17:07:31Z</dcterms:created>
  <dc:creator>patrice</dc:creator>
  <dc:description/>
  <dc:language>en-US</dc:language>
  <cp:lastModifiedBy>pfaye</cp:lastModifiedBy>
  <dcterms:modified xsi:type="dcterms:W3CDTF">2000-10-31T09:13:45Z</dcterms:modified>
  <cp:revision>32</cp:revision>
  <dc:subject/>
  <dc:title>Page Layout </dc:title>
</cp:coreProperties>
</file>